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3E2-6C58-4D1E-9700-EB5F332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ED6-CFC6-4654-8746-750C7FEA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85E-6C6C-4371-8D59-EA72C6DD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23D-3704-4D00-813D-331C6B04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B398-A863-4203-8614-F4BDFB37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FC0-BFD9-4D85-BD2E-999654FE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9604-A0D9-47CC-A01B-18C16CAE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397-65B6-4461-943F-9D0B0706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76A1-A67F-43C6-866A-A431C1AC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071-4830-457A-9E05-60688ED9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865-8DA2-49AA-8632-6EEB20C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378-ABE4-4D27-8A9D-5537D38C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C76-1B4E-400C-BD1D-2BCE6368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2AFD-B0E7-4E78-B7C5-8267ACB7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728B-0365-47D9-A8D0-A7F0700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A7E-13BE-4F43-A319-8C1E764F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1DF-2C3F-4141-941C-B9E66D4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5C0-C30A-4DBF-ABD7-A0482288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D70-8024-402F-8FFC-81325C49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97C-EAB8-4935-A1C4-94524DFE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E50-FF2F-4E25-98D5-02BF51A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BAA-DB3C-4BEA-972F-B7CD33C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E91-04D7-4B43-BADE-F8F0616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C51-864B-4A22-8CD7-EC302E0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C7C8-0414-4B62-A9EC-DA1D806D7A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7ED-1B6B-4641-92B7-EBC4A1652FD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quintana@senati.edu.pe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Jquintana@senati.edu.p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330066"/>
                </a:solidFill>
                <a:latin typeface="Arial"/>
              </a:rPr>
              <a:t>FORMACIÓN </a:t>
            </a:r>
            <a:r>
              <a:rPr b="1" lang="es-PE" sz="4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s-PE" sz="4400" spc="-1" strike="noStrike">
                <a:solidFill>
                  <a:srgbClr val="330066"/>
                </a:solidFill>
                <a:latin typeface="Arial"/>
              </a:rPr>
              <a:t>BASADA EN COMPETENCIAS PROFESIONALE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Perfil Profe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Diseño curri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Lic. Julio Quintana Salce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Jquintana@senati.edu.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efinición etimológica de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32160" y="1700280"/>
            <a:ext cx="2590920" cy="45972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COMPE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92160" y="2868480"/>
            <a:ext cx="2232000" cy="398880"/>
          </a:xfrm>
          <a:prstGeom prst="rect">
            <a:avLst/>
          </a:prstGeom>
          <a:solidFill>
            <a:srgbClr val="ccec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e6700"/>
                </a:solidFill>
                <a:latin typeface="Arial"/>
              </a:rPr>
              <a:t>COM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92160" y="4300560"/>
            <a:ext cx="2232000" cy="398880"/>
          </a:xfrm>
          <a:prstGeom prst="rect">
            <a:avLst/>
          </a:prstGeom>
          <a:solidFill>
            <a:srgbClr val="ccec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e6700"/>
                </a:solidFill>
                <a:latin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92160" y="5746680"/>
            <a:ext cx="2232000" cy="398880"/>
          </a:xfrm>
          <a:prstGeom prst="rect">
            <a:avLst/>
          </a:prstGeom>
          <a:solidFill>
            <a:srgbClr val="ccec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e6700"/>
                </a:solidFill>
                <a:latin typeface="Arial"/>
              </a:rPr>
              <a:t>COMPE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81680" y="2884320"/>
            <a:ext cx="2166840" cy="39888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00"/>
                </a:solidFill>
                <a:latin typeface="Arial"/>
              </a:rPr>
              <a:t>COMP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81680" y="4300560"/>
            <a:ext cx="2166840" cy="39888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00"/>
                </a:solidFill>
                <a:latin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81680" y="5746680"/>
            <a:ext cx="2166840" cy="39888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00"/>
                </a:solidFill>
                <a:latin typeface="Arial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280" y="2565360"/>
            <a:ext cx="171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cum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200" y="4076640"/>
            <a:ext cx="13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t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one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1160" y="551664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ó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4005360"/>
            <a:ext cx="135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97240" y="3502080"/>
            <a:ext cx="865080" cy="647640"/>
          </a:xfrm>
          <a:prstGeom prst="downArrow">
            <a:avLst>
              <a:gd name="adj1" fmla="val 58000"/>
              <a:gd name="adj2" fmla="val 492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700000">
            <a:off x="2647800" y="2095200"/>
            <a:ext cx="577800" cy="648000"/>
          </a:xfrm>
          <a:prstGeom prst="downArrow">
            <a:avLst>
              <a:gd name="adj1" fmla="val 58000"/>
              <a:gd name="adj2" fmla="val 552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8900000">
            <a:off x="5922720" y="2133360"/>
            <a:ext cx="577800" cy="647640"/>
          </a:xfrm>
          <a:prstGeom prst="downArrow">
            <a:avLst>
              <a:gd name="adj1" fmla="val 58000"/>
              <a:gd name="adj2" fmla="val 551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7240" y="4941720"/>
            <a:ext cx="865080" cy="648000"/>
          </a:xfrm>
          <a:prstGeom prst="downArrow">
            <a:avLst>
              <a:gd name="adj1" fmla="val 58000"/>
              <a:gd name="adj2" fmla="val 492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10320" y="3500280"/>
            <a:ext cx="865080" cy="648000"/>
          </a:xfrm>
          <a:prstGeom prst="downArrow">
            <a:avLst>
              <a:gd name="adj1" fmla="val 58000"/>
              <a:gd name="adj2" fmla="val 492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97240" y="4941720"/>
            <a:ext cx="865080" cy="648000"/>
          </a:xfrm>
          <a:prstGeom prst="downArrow">
            <a:avLst>
              <a:gd name="adj1" fmla="val 58000"/>
              <a:gd name="adj2" fmla="val 492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78920" y="2708280"/>
            <a:ext cx="13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v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u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73880" y="5465880"/>
            <a:ext cx="15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z de dispu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efinición de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Capacidad de acción para un propósito determinad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93228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Capacidad de desempeñar las tareas inherentes a un empleo determinad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IUO- 88 - O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Arquitectura de las Compet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1916280"/>
            <a:ext cx="3059280" cy="2879640"/>
          </a:xfrm>
          <a:prstGeom prst="ellipse">
            <a:avLst/>
          </a:prstGeom>
          <a:solidFill>
            <a:srgbClr val="cc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5280" y="3284640"/>
            <a:ext cx="3058920" cy="2879640"/>
          </a:xfrm>
          <a:prstGeom prst="ellipse">
            <a:avLst/>
          </a:prstGeom>
          <a:solidFill>
            <a:srgbClr val="31db9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Met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3282840"/>
            <a:ext cx="3058920" cy="2880000"/>
          </a:xfrm>
          <a:prstGeom prst="ellipse">
            <a:avLst/>
          </a:prstGeom>
          <a:solidFill>
            <a:srgbClr val="ff33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ersonales y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rot="20037600">
            <a:off x="4139280" y="3357720"/>
            <a:ext cx="2808000" cy="502920"/>
          </a:xfrm>
          <a:prstGeom prst="rightArrow">
            <a:avLst>
              <a:gd name="adj1" fmla="val 50000"/>
              <a:gd name="adj2" fmla="val 139585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213984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ff3300"/>
                </a:solidFill>
                <a:latin typeface="Arial"/>
              </a:rPr>
              <a:t>Competencia de ac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tilidad del perfil de competencias profesiona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_s1029"/>
          <p:cNvSpPr/>
          <p:nvPr/>
        </p:nvSpPr>
        <p:spPr>
          <a:xfrm>
            <a:off x="3462480" y="1628640"/>
            <a:ext cx="1973160" cy="140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41999" dir="1590005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stión 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RH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_s1031"/>
          <p:cNvSpPr/>
          <p:nvPr/>
        </p:nvSpPr>
        <p:spPr>
          <a:xfrm>
            <a:off x="6105600" y="4861080"/>
            <a:ext cx="1973160" cy="1401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41999" dir="1590005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aluación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rtific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_s1033"/>
          <p:cNvSpPr/>
          <p:nvPr/>
        </p:nvSpPr>
        <p:spPr>
          <a:xfrm>
            <a:off x="971640" y="4861080"/>
            <a:ext cx="1973160" cy="14014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41999" dir="1590005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pacitació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fes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87640" y="4797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07200" y="486900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306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3645000"/>
            <a:ext cx="2016000" cy="1512720"/>
          </a:xfrm>
          <a:prstGeom prst="flowChartDocumen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ERFIL D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étodos para identificar y definir el perfil de competenci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Ocupa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CUM (Desarrollo de Curriculu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D (Un Model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D (Desarrollo sistemático y formativo de un Currículu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Fun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Constructivis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ED (Empleo-tipo estudiado en su Dinám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iseño curri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1729080" cy="1817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987640" y="4005360"/>
            <a:ext cx="2592360" cy="2158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419640" y="2638440"/>
            <a:ext cx="1800000" cy="719280"/>
          </a:xfrm>
          <a:custGeom>
            <a:avLst/>
            <a:gdLst>
              <a:gd name="textAreaLeft" fmla="*/ 281160 w 1800000"/>
              <a:gd name="textAreaRight" fmla="*/ 1395000 w 1800000"/>
              <a:gd name="textAreaTop" fmla="*/ 174600 h 719280"/>
              <a:gd name="textAreaBottom" fmla="*/ 544680 h 719280"/>
            </a:gdLst>
            <a:ahLst/>
            <a:rect l="textAreaLeft" t="textAreaTop" r="textAreaRight" b="textAreaBottom"/>
            <a:pathLst>
              <a:path w="21600" h="21600">
                <a:moveTo>
                  <a:pt x="3375" y="5244"/>
                </a:moveTo>
                <a:lnTo>
                  <a:pt x="12149" y="5244"/>
                </a:lnTo>
                <a:lnTo>
                  <a:pt x="12149" y="0"/>
                </a:lnTo>
                <a:lnTo>
                  <a:pt x="21600" y="10800"/>
                </a:lnTo>
                <a:lnTo>
                  <a:pt x="12149" y="21600"/>
                </a:lnTo>
                <a:lnTo>
                  <a:pt x="12149" y="16356"/>
                </a:lnTo>
                <a:lnTo>
                  <a:pt x="3375" y="16356"/>
                </a:lnTo>
                <a:close/>
              </a:path>
              <a:path w="21600" h="21600">
                <a:moveTo>
                  <a:pt x="0" y="5244"/>
                </a:moveTo>
                <a:lnTo>
                  <a:pt x="675" y="5244"/>
                </a:lnTo>
                <a:lnTo>
                  <a:pt x="675" y="16356"/>
                </a:lnTo>
                <a:lnTo>
                  <a:pt x="0" y="16356"/>
                </a:lnTo>
                <a:close/>
              </a:path>
              <a:path w="21600" h="21600">
                <a:moveTo>
                  <a:pt x="1350" y="5244"/>
                </a:moveTo>
                <a:lnTo>
                  <a:pt x="2700" y="5244"/>
                </a:lnTo>
                <a:lnTo>
                  <a:pt x="2700" y="16356"/>
                </a:lnTo>
                <a:lnTo>
                  <a:pt x="1350" y="1635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796720" y="4509360"/>
            <a:ext cx="1149480" cy="934920"/>
          </a:xfrm>
          <a:custGeom>
            <a:avLst/>
            <a:gdLst>
              <a:gd name="textAreaLeft" fmla="*/ -360 w 1149480"/>
              <a:gd name="textAreaRight" fmla="*/ 1149480 w 1149480"/>
              <a:gd name="textAreaTop" fmla="*/ -360 h 934920"/>
              <a:gd name="textAreaBottom" fmla="*/ 9349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 rot="5400000">
            <a:off x="1778040" y="4163040"/>
            <a:ext cx="936360" cy="1339920"/>
          </a:xfrm>
          <a:custGeom>
            <a:avLst/>
            <a:gdLst>
              <a:gd name="textAreaLeft" fmla="*/ -360 w 936360"/>
              <a:gd name="textAreaRight" fmla="*/ 936360 w 936360"/>
              <a:gd name="textAreaTop" fmla="*/ 360 h 1339920"/>
              <a:gd name="textAreaBottom" fmla="*/ 1340640 h 1339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21118800">
            <a:off x="5794200" y="2228760"/>
            <a:ext cx="1873440" cy="17049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7da700"/>
              </a:gs>
            </a:gsLst>
            <a:lin ang="58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600" spc="-1" strike="noStrike">
                <a:solidFill>
                  <a:srgbClr val="000000"/>
                </a:solidFill>
                <a:latin typeface="Arial"/>
              </a:rPr>
              <a:t>Perfil 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 rot="996600">
            <a:off x="4006440" y="4365360"/>
            <a:ext cx="7621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iseñ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urricula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Curriculum - Concep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09840" y="1752480"/>
            <a:ext cx="612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efinición de currí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40000" y="1844640"/>
            <a:ext cx="626436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Hace referencia a la estructura de un plan de estudios de una entidad formati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0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e concibe como un instrumento para deter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854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la sele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854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estructur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5640" indent="-2854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"/>
              </a:rPr>
              <a:t>y organización de los contenidos de for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1773360"/>
            <a:ext cx="1584360" cy="1008000"/>
          </a:xfrm>
          <a:prstGeom prst="rightArrow">
            <a:avLst>
              <a:gd name="adj1" fmla="val 66537"/>
              <a:gd name="adj2" fmla="val 50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3300"/>
                </a:solidFill>
                <a:latin typeface="Arial"/>
              </a:rPr>
              <a:t>A modo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3500280"/>
            <a:ext cx="1584360" cy="1008360"/>
          </a:xfrm>
          <a:prstGeom prst="rightArrow">
            <a:avLst>
              <a:gd name="adj1" fmla="val 61870"/>
              <a:gd name="adj2" fmla="val 508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3300"/>
                </a:solidFill>
                <a:latin typeface="Arial"/>
              </a:rPr>
              <a:t>En sentido estri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Finalidad del currí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coplar los requerimientos del puesto de trabajo 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erfil de competencias del trabajador de tal man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que el individuo aprenda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cumplir con las exigencias concretas de un puesto de trabaj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daptarse a los requerimientos de cualificación futuro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desarrollarse de forma eficiente, como individuo en el trabajo y en la socie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Tipos de currí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95640" y="2125800"/>
            <a:ext cx="5843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lan de estudios de una carrera comple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lan de estudios de un curso o módu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Plan de estudios de una unidad de enseñanz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2133720"/>
            <a:ext cx="1225440" cy="86364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3573360"/>
            <a:ext cx="1225440" cy="86364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4941720"/>
            <a:ext cx="1225440" cy="863640"/>
          </a:xfrm>
          <a:prstGeom prst="foldedCorner">
            <a:avLst>
              <a:gd name="adj" fmla="val 125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LOS CAMBIOS EN EL MUNDO DEL TRABA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055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91520" y="1447200"/>
            <a:ext cx="6748560" cy="5170680"/>
            <a:chOff x="1091520" y="1447200"/>
            <a:chExt cx="6748560" cy="5170680"/>
          </a:xfrm>
        </p:grpSpPr>
        <p:sp>
          <p:nvSpPr>
            <p:cNvPr id="154" name="_s74759"/>
            <p:cNvSpPr/>
            <p:nvPr/>
          </p:nvSpPr>
          <p:spPr>
            <a:xfrm flipH="1">
              <a:off x="2774880" y="4031640"/>
              <a:ext cx="84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74760"/>
            <p:cNvSpPr/>
            <p:nvPr/>
          </p:nvSpPr>
          <p:spPr>
            <a:xfrm>
              <a:off x="1091520" y="3386520"/>
              <a:ext cx="1686240" cy="1292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7e9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4761"/>
            <p:cNvSpPr/>
            <p:nvPr/>
          </p:nvSpPr>
          <p:spPr>
            <a:xfrm>
              <a:off x="4464720" y="4676760"/>
              <a:ext cx="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74762"/>
            <p:cNvSpPr/>
            <p:nvPr/>
          </p:nvSpPr>
          <p:spPr>
            <a:xfrm>
              <a:off x="3622680" y="5325840"/>
              <a:ext cx="1686240" cy="1292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ecnológ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74763"/>
            <p:cNvSpPr/>
            <p:nvPr/>
          </p:nvSpPr>
          <p:spPr>
            <a:xfrm>
              <a:off x="5306400" y="4031640"/>
              <a:ext cx="84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74764"/>
            <p:cNvSpPr/>
            <p:nvPr/>
          </p:nvSpPr>
          <p:spPr>
            <a:xfrm>
              <a:off x="6153840" y="3386520"/>
              <a:ext cx="1686240" cy="1292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el 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74765"/>
            <p:cNvSpPr/>
            <p:nvPr/>
          </p:nvSpPr>
          <p:spPr>
            <a:xfrm flipV="1">
              <a:off x="4464720" y="2736720"/>
              <a:ext cx="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74766"/>
            <p:cNvSpPr/>
            <p:nvPr/>
          </p:nvSpPr>
          <p:spPr>
            <a:xfrm>
              <a:off x="3622680" y="1447200"/>
              <a:ext cx="1686240" cy="1292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74767"/>
            <p:cNvSpPr/>
            <p:nvPr/>
          </p:nvSpPr>
          <p:spPr>
            <a:xfrm>
              <a:off x="3622680" y="3386520"/>
              <a:ext cx="1686240" cy="1292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</a:rPr>
                <a:t>Camb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580000" y="1914480"/>
            <a:ext cx="313236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79" y="-2038"/>
                </a:moveTo>
                <a:lnTo>
                  <a:pt x="-525" y="2445"/>
                </a:lnTo>
              </a:path>
              <a:path w="21600" h="21600">
                <a:moveTo>
                  <a:pt x="-525" y="0"/>
                </a:moveTo>
                <a:lnTo>
                  <a:pt x="-52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Mercados interna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Fuerte competencia interna y ex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Predominio del sector de los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Orientación hacia 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9640" y="5084640"/>
            <a:ext cx="217980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55" y="2445"/>
                </a:moveTo>
                <a:lnTo>
                  <a:pt x="-4531" y="2445"/>
                </a:lnTo>
                <a:lnTo>
                  <a:pt x="-4531" y="-8049"/>
                </a:lnTo>
                <a:lnTo>
                  <a:pt x="1652" y="-15351"/>
                </a:lnTo>
              </a:path>
              <a:path w="21600" h="21600">
                <a:moveTo>
                  <a:pt x="-755" y="0"/>
                </a:moveTo>
                <a:lnTo>
                  <a:pt x="-75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Integración de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Autorespons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Dirección particip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083200"/>
            <a:ext cx="3203280" cy="11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458" y="6269"/>
                </a:moveTo>
                <a:lnTo>
                  <a:pt x="22114" y="2139"/>
                </a:lnTo>
              </a:path>
              <a:path w="21600" h="21600">
                <a:moveTo>
                  <a:pt x="22114" y="0"/>
                </a:moveTo>
                <a:lnTo>
                  <a:pt x="2211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Breves ciclos de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Breves ciclos de vida de produ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Procesos de producción automatiz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istemas complejos de 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3640" y="1989000"/>
            <a:ext cx="259236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35" y="2445"/>
                </a:moveTo>
                <a:lnTo>
                  <a:pt x="-3968" y="2445"/>
                </a:lnTo>
                <a:lnTo>
                  <a:pt x="-3968" y="17117"/>
                </a:lnTo>
                <a:lnTo>
                  <a:pt x="2235" y="36238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Espíritu de autore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Conciencia de 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"/>
              </a:rPr>
              <a:t>Conciencia eco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iseño curri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60520" y="1719360"/>
            <a:ext cx="62215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Fases del diseño curri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Diseño (decidir lo que se quiere enseñar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Desarrollo (la puesta en marcha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"/>
              </a:rPr>
              <a:t>Evaluación (valorar los efectos del currícul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Utilidad del diseño curri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Desde la perspectiva pedagógica y didáctica, 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diseño curricular sirve como instrumen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para determinar la selecció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la estructuració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y el planteamiento operativo de los contenidos de la form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iseño curricular por compet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1844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El diseño curricular por competencias no trata de hacer un diseño como un listado de materias (enfoque tradicional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Sino diseñar y construir situaciones de aprendizaje orientadas a una situación de trabajo re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0066"/>
                </a:solidFill>
                <a:latin typeface="Arial"/>
              </a:rPr>
              <a:t>Diferentes modelos de diseño curricul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1922400"/>
            <a:ext cx="33130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PROFESIONES MO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STRUCTUR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Arial"/>
              </a:rPr>
              <a:t>PROFESI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Arial"/>
              </a:rPr>
              <a:t>SIN ESPECIALIZ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PROFESIONES 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SPEC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PROFESIONE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FORMACIÓN EN ETA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3440" y="1851120"/>
            <a:ext cx="23115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3440" y="3068640"/>
            <a:ext cx="23115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3440" y="4292640"/>
            <a:ext cx="2311560" cy="10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3440" y="5445000"/>
            <a:ext cx="23115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861080" y="3213000"/>
            <a:ext cx="1699920" cy="941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1652760" cy="819360"/>
          </a:xfrm>
          <a:prstGeom prst="rect">
            <a:avLst/>
          </a:prstGeom>
          <a:ln w="0">
            <a:noFill/>
          </a:ln>
        </p:spPr>
      </p:pic>
      <p:pic>
        <p:nvPicPr>
          <p:cNvPr id="292" name="4c" descr=""/>
          <p:cNvPicPr/>
          <p:nvPr/>
        </p:nvPicPr>
        <p:blipFill>
          <a:blip r:embed="rId3"/>
          <a:stretch/>
        </p:blipFill>
        <p:spPr>
          <a:xfrm>
            <a:off x="5211720" y="5667480"/>
            <a:ext cx="873000" cy="210960"/>
          </a:xfrm>
          <a:prstGeom prst="rect">
            <a:avLst/>
          </a:prstGeom>
          <a:ln w="0">
            <a:noFill/>
          </a:ln>
        </p:spPr>
      </p:pic>
      <p:pic>
        <p:nvPicPr>
          <p:cNvPr id="293" name="1a" descr=""/>
          <p:cNvPicPr/>
          <p:nvPr/>
        </p:nvPicPr>
        <p:blipFill>
          <a:blip r:embed="rId4"/>
          <a:stretch/>
        </p:blipFill>
        <p:spPr>
          <a:xfrm>
            <a:off x="4716360" y="1917720"/>
            <a:ext cx="863640" cy="1019160"/>
          </a:xfrm>
          <a:prstGeom prst="rect">
            <a:avLst/>
          </a:prstGeom>
          <a:ln w="0">
            <a:noFill/>
          </a:ln>
        </p:spPr>
      </p:pic>
      <p:pic>
        <p:nvPicPr>
          <p:cNvPr id="294" name="1b" descr=""/>
          <p:cNvPicPr/>
          <p:nvPr/>
        </p:nvPicPr>
        <p:blipFill>
          <a:blip r:embed="rId5"/>
          <a:srcRect l="0" t="9353" r="-3832" b="0"/>
          <a:stretch/>
        </p:blipFill>
        <p:spPr>
          <a:xfrm>
            <a:off x="5940360" y="1989000"/>
            <a:ext cx="719280" cy="924120"/>
          </a:xfrm>
          <a:prstGeom prst="rect">
            <a:avLst/>
          </a:prstGeom>
          <a:ln w="0">
            <a:noFill/>
          </a:ln>
        </p:spPr>
      </p:pic>
      <p:pic>
        <p:nvPicPr>
          <p:cNvPr id="295" name="4d" descr=""/>
          <p:cNvPicPr/>
          <p:nvPr/>
        </p:nvPicPr>
        <p:blipFill>
          <a:blip r:embed="rId6"/>
          <a:stretch/>
        </p:blipFill>
        <p:spPr>
          <a:xfrm>
            <a:off x="5221440" y="5878440"/>
            <a:ext cx="12762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iseños actua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La idea central de un diseño actual es po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agrupar los contenidos profesionales de mo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que nos permita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diseñar en una primera fase currículos comunes para diferentes profesiones de una misma familia ocupacional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e ir introduciendo progresivamente un grado de especialización ma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Desarrollo anticipativo del currícul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6040" y="1844640"/>
            <a:ext cx="34221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uestos normal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54760" y="1844640"/>
            <a:ext cx="33368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uestos modelo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2600" y="2637000"/>
            <a:ext cx="25902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tudios de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(empresas 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4120" y="2637000"/>
            <a:ext cx="41904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tudios de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(empresas que marcan tende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0560" y="3789360"/>
            <a:ext cx="248976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Informaciones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xigencias ac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75280" y="3807000"/>
            <a:ext cx="248976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Informaciones s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xigencias fu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78480" y="4367160"/>
            <a:ext cx="178092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anticip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el currí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92840" y="5805360"/>
            <a:ext cx="4760280" cy="398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Cualificación del trabajador del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63640" y="2314440"/>
            <a:ext cx="432000" cy="289080"/>
          </a:xfrm>
          <a:prstGeom prst="downArrow">
            <a:avLst>
              <a:gd name="adj1" fmla="val 49269"/>
              <a:gd name="adj2" fmla="val 3931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48360" y="3408480"/>
            <a:ext cx="432000" cy="288720"/>
          </a:xfrm>
          <a:prstGeom prst="downArrow">
            <a:avLst>
              <a:gd name="adj1" fmla="val 49269"/>
              <a:gd name="adj2" fmla="val 3931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3408480"/>
            <a:ext cx="432000" cy="288720"/>
          </a:xfrm>
          <a:prstGeom prst="downArrow">
            <a:avLst>
              <a:gd name="adj1" fmla="val 49269"/>
              <a:gd name="adj2" fmla="val 3931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48360" y="2313000"/>
            <a:ext cx="432000" cy="289080"/>
          </a:xfrm>
          <a:prstGeom prst="downArrow">
            <a:avLst>
              <a:gd name="adj1" fmla="val 49269"/>
              <a:gd name="adj2" fmla="val 3931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6000" y="5445000"/>
            <a:ext cx="432000" cy="289080"/>
          </a:xfrm>
          <a:prstGeom prst="downArrow">
            <a:avLst>
              <a:gd name="adj1" fmla="val 49269"/>
              <a:gd name="adj2" fmla="val 39310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2735640" y="4401360"/>
            <a:ext cx="576360" cy="936360"/>
          </a:xfrm>
          <a:custGeom>
            <a:avLst/>
            <a:gdLst>
              <a:gd name="textAreaLeft" fmla="*/ 209160 w 576360"/>
              <a:gd name="textAreaRight" fmla="*/ 493920 w 576360"/>
              <a:gd name="textAreaTop" fmla="*/ 538920 h 936360"/>
              <a:gd name="textAreaBottom" fmla="*/ 802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5530"/>
                </a:moveTo>
                <a:lnTo>
                  <a:pt x="12435" y="15530"/>
                </a:lnTo>
                <a:lnTo>
                  <a:pt x="12435" y="7834"/>
                </a:lnTo>
                <a:lnTo>
                  <a:pt x="9340" y="7834"/>
                </a:lnTo>
                <a:lnTo>
                  <a:pt x="15470" y="0"/>
                </a:lnTo>
                <a:lnTo>
                  <a:pt x="21600" y="7834"/>
                </a:lnTo>
                <a:lnTo>
                  <a:pt x="18505" y="7834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rot="16200000">
            <a:off x="5833080" y="4401000"/>
            <a:ext cx="576360" cy="936720"/>
          </a:xfrm>
          <a:custGeom>
            <a:avLst/>
            <a:gdLst>
              <a:gd name="textAreaLeft" fmla="*/ 209160 w 576360"/>
              <a:gd name="textAreaRight" fmla="*/ 493920 w 576360"/>
              <a:gd name="textAreaTop" fmla="*/ 539280 h 936720"/>
              <a:gd name="textAreaBottom" fmla="*/ 802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530"/>
                </a:moveTo>
                <a:lnTo>
                  <a:pt x="12435" y="15530"/>
                </a:lnTo>
                <a:lnTo>
                  <a:pt x="12435" y="7834"/>
                </a:lnTo>
                <a:lnTo>
                  <a:pt x="9340" y="7834"/>
                </a:lnTo>
                <a:lnTo>
                  <a:pt x="15470" y="0"/>
                </a:lnTo>
                <a:lnTo>
                  <a:pt x="21600" y="7834"/>
                </a:lnTo>
                <a:lnTo>
                  <a:pt x="18505" y="7834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Componentes del diseño curricul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Objetivos de aprendizaj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Contenidos de aprendizaj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Evaluació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Certificació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Metodología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Medio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Organiz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108000" y="2924280"/>
            <a:ext cx="8420040" cy="1469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600" spc="-1" strike="noStrike" u="sng">
                <a:solidFill>
                  <a:srgbClr val="330066"/>
                </a:solidFill>
                <a:uFillTx/>
                <a:latin typeface="Arial"/>
              </a:rPr>
              <a:t>LA CALIDAD EDUCATIVA EN EL PER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440" y="2349360"/>
            <a:ext cx="12492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c0128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irculos de calidad</a:t>
            </a:r>
            <a:endParaRPr b="0" lang="en-US" sz="1400" spc="1" strike="noStrike">
              <a:ln w="9360">
                <a:solidFill>
                  <a:srgbClr val="fc0128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443320" y="5375160"/>
            <a:ext cx="42526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Gestión de Calidad Tot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 rot="19643400">
            <a:off x="5880240" y="5573520"/>
            <a:ext cx="34002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ertifación de competencia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 rot="20334600">
            <a:off x="4431960" y="3286080"/>
            <a:ext cx="312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Gestión por Proces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 rot="663000">
            <a:off x="1236240" y="2133720"/>
            <a:ext cx="2183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ertific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0680" y="3502080"/>
            <a:ext cx="2144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SO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 rot="1915200">
            <a:off x="845640" y="3068280"/>
            <a:ext cx="2926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0066"/>
                </a:solidFill>
                <a:latin typeface="Impact"/>
              </a:rPr>
              <a:t>Acreditación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330066"/>
              </a:solidFill>
              <a:latin typeface="Impact"/>
              <a:ea typeface="Impac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992920" y="3718080"/>
            <a:ext cx="32763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delo Malcom  Baldrige</a:t>
            </a:r>
            <a:endParaRPr b="0" i="1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 rot="20979000">
            <a:off x="5524560" y="2133720"/>
            <a:ext cx="271764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odelo AB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564000" y="1486080"/>
            <a:ext cx="5462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utoevaluación EFQ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69880" y="4411800"/>
            <a:ext cx="7997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MEJORA CONTINUA DE LA CA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 rot="1570800">
            <a:off x="-52560" y="5406840"/>
            <a:ext cx="339408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0066"/>
                </a:solidFill>
                <a:latin typeface="Impact"/>
              </a:rPr>
              <a:t>Modelo CIPP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330066"/>
              </a:solidFill>
              <a:latin typeface="Impact"/>
              <a:ea typeface="Impact"/>
            </a:endParaRPr>
          </a:p>
        </p:txBody>
      </p:sp>
      <p:sp>
        <p:nvSpPr>
          <p:cNvPr id="329" name=""/>
          <p:cNvSpPr txBox="1"/>
          <p:nvPr/>
        </p:nvSpPr>
        <p:spPr>
          <a:xfrm rot="3042600">
            <a:off x="7752600" y="2840400"/>
            <a:ext cx="110952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uditorí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13040" y="6165720"/>
            <a:ext cx="1754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NDA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108000" y="5950080"/>
            <a:ext cx="188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delo CAF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0680" y="1486080"/>
            <a:ext cx="296532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delo QUAFE-80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131760" y="6224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¿</a:t>
            </a:r>
            <a:r>
              <a:rPr b="1" lang="es-ES" sz="3900" spc="-1" strike="noStrike" u="sng">
                <a:solidFill>
                  <a:srgbClr val="330066"/>
                </a:solidFill>
                <a:uFillTx/>
                <a:latin typeface="Arial"/>
              </a:rPr>
              <a:t>CONFUSIÓN</a:t>
            </a: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500" spc="-1" strike="noStrike">
                <a:solidFill>
                  <a:srgbClr val="330066"/>
                </a:solidFill>
                <a:latin typeface="Arial"/>
              </a:rPr>
              <a:t>NUEVAS EXIGENCIAS A LOS TRABAJADORES CUALIFIC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719360"/>
          <a:ext cx="8229600" cy="5141880"/>
        </p:xfrm>
        <a:graphic>
          <a:graphicData uri="http://schemas.openxmlformats.org/drawingml/2006/table">
            <a:tbl>
              <a:tblPr/>
              <a:tblGrid>
                <a:gridCol w="3805200"/>
                <a:gridCol w="44244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s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o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8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orarios de trabajo rígido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nes de trabajo predefinido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 jefe realiza el reparto de tarea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 jefe decide en caso de avería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 jefe es responsable de materiales e herramienta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 control de calidad está a cargo de controladores especiales / del jefe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bligación de atenerse a los plazos fijado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el jefe responde de los coste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las negociaciones y contactos con los clientes se concentran en el jefe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nificación y ejecución de tareas según las instrucciones recibid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horarios flexibles de trabajo concertados en equipo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nificación autónoma de tarea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parto de tareas dentro del grupo de trabajo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utonomía en el análisis de averías y reparacione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so responsable de materiales e herramientas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ontrol de calidad en propia responsabilidad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responsabilidad a la hora de fijar plazo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articipación en la gestión de costes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orientación responsable hacia el cliente en todos los miembros de la plantilla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lanificación, ejecución y control de tareas por los trabajadores en forma autóno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44600" y="379440"/>
            <a:ext cx="9018360" cy="1104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SISTEMA EDUCATIVO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7960" y="1341360"/>
            <a:ext cx="8968680" cy="5166000"/>
            <a:chOff x="507960" y="1341360"/>
            <a:chExt cx="8968680" cy="5166000"/>
          </a:xfrm>
        </p:grpSpPr>
        <p:grpSp>
          <p:nvGrpSpPr>
            <p:cNvPr id="336" name=""/>
            <p:cNvGrpSpPr/>
            <p:nvPr/>
          </p:nvGrpSpPr>
          <p:grpSpPr>
            <a:xfrm>
              <a:off x="1286640" y="2847600"/>
              <a:ext cx="2771640" cy="1381320"/>
              <a:chOff x="1286640" y="2847600"/>
              <a:chExt cx="2771640" cy="138132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2655360" y="3509640"/>
                <a:ext cx="0" cy="719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058280" y="3509280"/>
                <a:ext cx="0" cy="6951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1286640" y="3509280"/>
                <a:ext cx="10080" cy="7095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291680" y="3528720"/>
                <a:ext cx="2766600" cy="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1843560" y="2862000"/>
                <a:ext cx="0" cy="6667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3539520" y="2847600"/>
                <a:ext cx="10080" cy="681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H="1">
              <a:off x="6685920" y="4797360"/>
              <a:ext cx="210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960" y="3735000"/>
              <a:ext cx="4257360" cy="2335320"/>
            </a:xfrm>
            <a:prstGeom prst="rect">
              <a:avLst/>
            </a:prstGeom>
            <a:gradFill rotWithShape="0">
              <a:gsLst>
                <a:gs pos="0">
                  <a:srgbClr val="2f7575"/>
                </a:gs>
                <a:gs pos="50000">
                  <a:srgbClr val="66ffff"/>
                </a:gs>
                <a:gs pos="100000">
                  <a:srgbClr val="2f7575"/>
                </a:gs>
              </a:gsLst>
              <a:lin ang="13500000"/>
            </a:gradFill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18480" y="3789000"/>
              <a:ext cx="209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ETAPA DE EDUCACIÓN BÁSIC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71040" y="4197240"/>
              <a:ext cx="1161360" cy="1670040"/>
              <a:chOff x="671040" y="4197240"/>
              <a:chExt cx="1161360" cy="167004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671040" y="4197240"/>
                <a:ext cx="1161360" cy="1670040"/>
                <a:chOff x="671040" y="4197240"/>
                <a:chExt cx="1161360" cy="167004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671040" y="4197240"/>
                  <a:ext cx="1161360" cy="1670040"/>
                  <a:chOff x="671040" y="4197240"/>
                  <a:chExt cx="1161360" cy="16700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1669320" y="4197240"/>
                    <a:ext cx="163080" cy="16700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052">
                        <a:moveTo>
                          <a:pt x="0" y="1052"/>
                        </a:moveTo>
                        <a:lnTo>
                          <a:pt x="0" y="82"/>
                        </a:lnTo>
                        <a:lnTo>
                          <a:pt x="95" y="0"/>
                        </a:lnTo>
                        <a:lnTo>
                          <a:pt x="95" y="971"/>
                        </a:lnTo>
                        <a:lnTo>
                          <a:pt x="0" y="1052"/>
                        </a:lnTo>
                        <a:close/>
                      </a:path>
                    </a:pathLst>
                  </a:custGeom>
                  <a:solidFill>
                    <a:srgbClr val="e1e1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71040" y="4197240"/>
                    <a:ext cx="11613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6" h="82">
                        <a:moveTo>
                          <a:pt x="581" y="82"/>
                        </a:moveTo>
                        <a:lnTo>
                          <a:pt x="0" y="82"/>
                        </a:lnTo>
                        <a:lnTo>
                          <a:pt x="95" y="0"/>
                        </a:lnTo>
                        <a:lnTo>
                          <a:pt x="676" y="0"/>
                        </a:lnTo>
                        <a:lnTo>
                          <a:pt x="581" y="82"/>
                        </a:lnTo>
                        <a:close/>
                      </a:path>
                    </a:pathLst>
                  </a:custGeom>
                  <a:solidFill>
                    <a:srgbClr val="9898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71040" y="4327560"/>
                  <a:ext cx="998280" cy="1539720"/>
                  <a:chOff x="671040" y="4327560"/>
                  <a:chExt cx="998280" cy="1539720"/>
                </a:xfrm>
              </p:grpSpPr>
              <p:pic>
                <p:nvPicPr>
                  <p:cNvPr id="352" name="" descr=""/>
                  <p:cNvPicPr/>
                  <p:nvPr/>
                </p:nvPicPr>
                <p:blipFill>
                  <a:blip r:embed="rId1"/>
                  <a:srcRect l="0" t="0" r="35948" b="0"/>
                  <a:stretch/>
                </p:blipFill>
                <p:spPr>
                  <a:xfrm>
                    <a:off x="671040" y="4327560"/>
                    <a:ext cx="99828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rcRect l="0" t="0" r="35948" b="78934"/>
                  <a:stretch/>
                </p:blipFill>
                <p:spPr>
                  <a:xfrm>
                    <a:off x="671040" y="5595840"/>
                    <a:ext cx="99828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729360" y="4379760"/>
                <a:ext cx="851400" cy="1444680"/>
                <a:chOff x="729360" y="4379760"/>
                <a:chExt cx="851400" cy="14446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847800" y="4379760"/>
                  <a:ext cx="627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6600"/>
                      </a:solidFill>
                      <a:latin typeface="Arial Narrow"/>
                      <a:ea typeface="Arial"/>
                    </a:rPr>
                    <a:t>EDU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6600"/>
                      </a:solidFill>
                      <a:latin typeface="Arial Narrow"/>
                      <a:ea typeface="Arial"/>
                    </a:rPr>
                    <a:t>BÁS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996600"/>
                      </a:solidFill>
                      <a:latin typeface="Arial Narrow"/>
                      <a:ea typeface="Arial"/>
                    </a:rPr>
                    <a:t>REGULA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729360" y="4846680"/>
                  <a:ext cx="851400" cy="977760"/>
                  <a:chOff x="729360" y="4846680"/>
                  <a:chExt cx="851400" cy="977760"/>
                </a:xfrm>
              </p:grpSpPr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729360" y="4846680"/>
                    <a:ext cx="851400" cy="326880"/>
                    <a:chOff x="729360" y="4846680"/>
                    <a:chExt cx="851400" cy="3268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729360" y="4846680"/>
                      <a:ext cx="851400" cy="32688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872640" y="4888440"/>
                      <a:ext cx="56304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EDUC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SECUND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729360" y="5197320"/>
                    <a:ext cx="849960" cy="297000"/>
                    <a:chOff x="729360" y="5197320"/>
                    <a:chExt cx="849960" cy="2970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729360" y="5197320"/>
                      <a:ext cx="849960" cy="29700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897840" y="5223240"/>
                      <a:ext cx="51120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EDUC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PRIMA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731160" y="5519880"/>
                    <a:ext cx="849600" cy="304560"/>
                    <a:chOff x="731160" y="5519880"/>
                    <a:chExt cx="849600" cy="30456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731160" y="5519880"/>
                      <a:ext cx="849600" cy="304560"/>
                    </a:xfrm>
                    <a:prstGeom prst="rect">
                      <a:avLst/>
                    </a:pr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899280" y="5550120"/>
                      <a:ext cx="511200" cy="243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EDUC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993300"/>
                          </a:solidFill>
                          <a:latin typeface="Arial Narrow"/>
                          <a:ea typeface="Arial"/>
                        </a:rPr>
                        <a:t>INI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66" name=""/>
            <p:cNvSpPr/>
            <p:nvPr/>
          </p:nvSpPr>
          <p:spPr>
            <a:xfrm flipH="1">
              <a:off x="6685920" y="5464080"/>
              <a:ext cx="210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8178480" y="4317840"/>
              <a:ext cx="6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5000" y="1341360"/>
              <a:ext cx="3979080" cy="1511280"/>
            </a:xfrm>
            <a:prstGeom prst="rect">
              <a:avLst/>
            </a:prstGeom>
            <a:gradFill rotWithShape="0">
              <a:gsLst>
                <a:gs pos="0">
                  <a:srgbClr val="66ffff">
                    <a:alpha val="46274"/>
                  </a:srgbClr>
                </a:gs>
                <a:gs pos="100000">
                  <a:srgbClr val="2f7575"/>
                </a:gs>
              </a:gsLst>
              <a:lin ang="5400000"/>
            </a:gradFill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8840" y="1483920"/>
              <a:ext cx="24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ETAPA DE EDUCACION 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41600" y="1841400"/>
              <a:ext cx="1833480" cy="842760"/>
              <a:chOff x="741600" y="1841400"/>
              <a:chExt cx="1833480" cy="84276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741600" y="1841400"/>
                <a:ext cx="1833480" cy="842760"/>
                <a:chOff x="741600" y="1841400"/>
                <a:chExt cx="1833480" cy="84276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741600" y="1841400"/>
                  <a:ext cx="1833480" cy="842760"/>
                  <a:chOff x="741600" y="1841400"/>
                  <a:chExt cx="1833480" cy="842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2417400" y="1841400"/>
                    <a:ext cx="157680" cy="842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31">
                        <a:moveTo>
                          <a:pt x="0" y="531"/>
                        </a:moveTo>
                        <a:lnTo>
                          <a:pt x="0" y="81"/>
                        </a:lnTo>
                        <a:lnTo>
                          <a:pt x="92" y="0"/>
                        </a:lnTo>
                        <a:lnTo>
                          <a:pt x="92" y="447"/>
                        </a:lnTo>
                        <a:lnTo>
                          <a:pt x="0" y="531"/>
                        </a:lnTo>
                        <a:close/>
                      </a:path>
                    </a:pathLst>
                  </a:cu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1600" y="1841400"/>
                    <a:ext cx="1833480" cy="12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7" h="81">
                        <a:moveTo>
                          <a:pt x="975" y="81"/>
                        </a:moveTo>
                        <a:lnTo>
                          <a:pt x="0" y="81"/>
                        </a:lnTo>
                        <a:lnTo>
                          <a:pt x="96" y="0"/>
                        </a:lnTo>
                        <a:lnTo>
                          <a:pt x="1067" y="0"/>
                        </a:lnTo>
                        <a:lnTo>
                          <a:pt x="975" y="81"/>
                        </a:lnTo>
                        <a:close/>
                      </a:path>
                    </a:pathLst>
                  </a:custGeom>
                  <a:solidFill>
                    <a:srgbClr val="0098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41600" y="1969560"/>
                  <a:ext cx="1675800" cy="713880"/>
                  <a:chOff x="741600" y="1969560"/>
                  <a:chExt cx="1675800" cy="71388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741600" y="1969560"/>
                    <a:ext cx="1675800" cy="93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41600" y="1978920"/>
                    <a:ext cx="1675800" cy="1224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41600" y="1991520"/>
                    <a:ext cx="1675800" cy="75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41600" y="1999440"/>
                    <a:ext cx="1675800" cy="93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41600" y="2009160"/>
                    <a:ext cx="1675800" cy="1224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41600" y="2021760"/>
                    <a:ext cx="1675800" cy="7560"/>
                  </a:xfrm>
                  <a:prstGeom prst="rect">
                    <a:avLst/>
                  </a:prstGeom>
                  <a:solidFill>
                    <a:srgbClr val="00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41600" y="2029680"/>
                    <a:ext cx="1675800" cy="900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41600" y="2039040"/>
                    <a:ext cx="1675800" cy="792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41600" y="2047320"/>
                    <a:ext cx="1675800" cy="12240"/>
                  </a:xfrm>
                  <a:prstGeom prst="rect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41600" y="2059920"/>
                    <a:ext cx="1675800" cy="9000"/>
                  </a:xfrm>
                  <a:prstGeom prst="rect">
                    <a:avLst/>
                  </a:pr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41600" y="2069280"/>
                    <a:ext cx="1675800" cy="7560"/>
                  </a:xfrm>
                  <a:prstGeom prst="rect">
                    <a:avLst/>
                  </a:prstGeom>
                  <a:solidFill>
                    <a:srgbClr val="00e2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41600" y="2077200"/>
                    <a:ext cx="1675800" cy="12600"/>
                  </a:xfrm>
                  <a:prstGeom prst="rect">
                    <a:avLst/>
                  </a:prstGeom>
                  <a:solidFill>
                    <a:srgbClr val="00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41600" y="2090160"/>
                    <a:ext cx="1675800" cy="9000"/>
                  </a:xfrm>
                  <a:prstGeom prst="rect">
                    <a:avLst/>
                  </a:prstGeom>
                  <a:solidFill>
                    <a:srgbClr val="00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41600" y="2099520"/>
                    <a:ext cx="1675800" cy="7560"/>
                  </a:xfrm>
                  <a:prstGeom prst="rect">
                    <a:avLst/>
                  </a:prstGeom>
                  <a:solidFill>
                    <a:srgbClr val="00e7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41600" y="2107440"/>
                    <a:ext cx="1675800" cy="12240"/>
                  </a:xfrm>
                  <a:prstGeom prst="rect">
                    <a:avLst/>
                  </a:prstGeom>
                  <a:solidFill>
                    <a:srgbClr val="00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41600" y="2120040"/>
                    <a:ext cx="1675800" cy="9360"/>
                  </a:xfrm>
                  <a:prstGeom prst="rect">
                    <a:avLst/>
                  </a:prstGeom>
                  <a:solidFill>
                    <a:srgbClr val="00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41600" y="2129760"/>
                    <a:ext cx="1675800" cy="7560"/>
                  </a:xfrm>
                  <a:prstGeom prst="rect">
                    <a:avLst/>
                  </a:prstGeom>
                  <a:solidFill>
                    <a:srgbClr val="00eb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41600" y="2137680"/>
                    <a:ext cx="1675800" cy="12240"/>
                  </a:xfrm>
                  <a:prstGeom prst="rect">
                    <a:avLst/>
                  </a:prstGeom>
                  <a:solidFill>
                    <a:srgbClr val="00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41600" y="2150280"/>
                    <a:ext cx="1675800" cy="9360"/>
                  </a:xfrm>
                  <a:prstGeom prst="rect">
                    <a:avLst/>
                  </a:prstGeom>
                  <a:solidFill>
                    <a:srgbClr val="00ee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41600" y="2160000"/>
                    <a:ext cx="1675800" cy="7560"/>
                  </a:xfrm>
                  <a:prstGeom prst="rect">
                    <a:avLst/>
                  </a:prstGeom>
                  <a:solidFill>
                    <a:srgbClr val="0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41600" y="2167920"/>
                    <a:ext cx="1675800" cy="7560"/>
                  </a:xfrm>
                  <a:prstGeom prst="rect">
                    <a:avLst/>
                  </a:prstGeom>
                  <a:solidFill>
                    <a:srgbClr val="00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41600" y="2175840"/>
                    <a:ext cx="1675800" cy="13680"/>
                  </a:xfrm>
                  <a:prstGeom prst="rect">
                    <a:avLst/>
                  </a:prstGeom>
                  <a:solidFill>
                    <a:srgbClr val="00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41600" y="2189880"/>
                    <a:ext cx="1675800" cy="7560"/>
                  </a:xfrm>
                  <a:prstGeom prst="rect">
                    <a:avLst/>
                  </a:prstGeom>
                  <a:solidFill>
                    <a:srgbClr val="00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41600" y="2197800"/>
                    <a:ext cx="1675800" cy="7920"/>
                  </a:xfrm>
                  <a:prstGeom prst="rect">
                    <a:avLst/>
                  </a:prstGeom>
                  <a:solidFill>
                    <a:srgbClr val="00f6f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41600" y="2206080"/>
                    <a:ext cx="1675800" cy="13680"/>
                  </a:xfrm>
                  <a:prstGeom prst="rect">
                    <a:avLst/>
                  </a:prstGeom>
                  <a:solidFill>
                    <a:srgbClr val="00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41600" y="2220120"/>
                    <a:ext cx="1675800" cy="7560"/>
                  </a:xfrm>
                  <a:prstGeom prst="rect">
                    <a:avLst/>
                  </a:prstGeom>
                  <a:solidFill>
                    <a:srgbClr val="00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741600" y="2228040"/>
                    <a:ext cx="1675800" cy="7560"/>
                  </a:xfrm>
                  <a:prstGeom prst="rect">
                    <a:avLst/>
                  </a:prstGeom>
                  <a:solidFill>
                    <a:srgbClr val="00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41600" y="2235960"/>
                    <a:ext cx="1675800" cy="14040"/>
                  </a:xfrm>
                  <a:prstGeom prst="rect">
                    <a:avLst/>
                  </a:prstGeom>
                  <a:solidFill>
                    <a:srgbClr val="00fa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41600" y="2250360"/>
                    <a:ext cx="1675800" cy="7560"/>
                  </a:xfrm>
                  <a:prstGeom prst="rect">
                    <a:avLst/>
                  </a:prstGeom>
                  <a:solidFill>
                    <a:srgbClr val="00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41600" y="2258280"/>
                    <a:ext cx="1675800" cy="756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41600" y="2266200"/>
                    <a:ext cx="1675800" cy="936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41600" y="2275920"/>
                    <a:ext cx="1675800" cy="1224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741600" y="2288520"/>
                    <a:ext cx="1675800" cy="756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741600" y="2296440"/>
                    <a:ext cx="1675800" cy="900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741600" y="2305800"/>
                    <a:ext cx="1675800" cy="1260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41600" y="2318760"/>
                    <a:ext cx="1675800" cy="7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41600" y="2326680"/>
                    <a:ext cx="1675800" cy="90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41600" y="2336040"/>
                    <a:ext cx="1675800" cy="1224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41600" y="2348640"/>
                    <a:ext cx="1675800" cy="756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41600" y="2356560"/>
                    <a:ext cx="1675800" cy="936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41600" y="2366280"/>
                    <a:ext cx="1675800" cy="1224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41600" y="2378880"/>
                    <a:ext cx="1675800" cy="756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41600" y="2386800"/>
                    <a:ext cx="1675800" cy="936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41600" y="2396520"/>
                    <a:ext cx="1675800" cy="7560"/>
                  </a:xfrm>
                  <a:prstGeom prst="rect">
                    <a:avLst/>
                  </a:prstGeom>
                  <a:solidFill>
                    <a:srgbClr val="00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41600" y="2404440"/>
                    <a:ext cx="1675800" cy="12240"/>
                  </a:xfrm>
                  <a:prstGeom prst="rect">
                    <a:avLst/>
                  </a:prstGeom>
                  <a:solidFill>
                    <a:srgbClr val="00fa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41600" y="2417040"/>
                    <a:ext cx="1675800" cy="9000"/>
                  </a:xfrm>
                  <a:prstGeom prst="rect">
                    <a:avLst/>
                  </a:prstGeom>
                  <a:solidFill>
                    <a:srgbClr val="00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41600" y="2426400"/>
                    <a:ext cx="1675800" cy="7920"/>
                  </a:xfrm>
                  <a:prstGeom prst="rect">
                    <a:avLst/>
                  </a:prstGeom>
                  <a:solidFill>
                    <a:srgbClr val="00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41600" y="2434680"/>
                    <a:ext cx="1675800" cy="12240"/>
                  </a:xfrm>
                  <a:prstGeom prst="rect">
                    <a:avLst/>
                  </a:prstGeom>
                  <a:solidFill>
                    <a:srgbClr val="00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41600" y="2447280"/>
                    <a:ext cx="1675800" cy="9000"/>
                  </a:xfrm>
                  <a:prstGeom prst="rect">
                    <a:avLst/>
                  </a:prstGeom>
                  <a:solidFill>
                    <a:srgbClr val="00f6f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41600" y="2456640"/>
                    <a:ext cx="1675800" cy="7560"/>
                  </a:xfrm>
                  <a:prstGeom prst="rect">
                    <a:avLst/>
                  </a:prstGeom>
                  <a:solidFill>
                    <a:srgbClr val="00f4f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41600" y="2464560"/>
                    <a:ext cx="1675800" cy="12600"/>
                  </a:xfrm>
                  <a:prstGeom prst="rect">
                    <a:avLst/>
                  </a:prstGeom>
                  <a:solidFill>
                    <a:srgbClr val="00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41600" y="2477520"/>
                    <a:ext cx="1675800" cy="9000"/>
                  </a:xfrm>
                  <a:prstGeom prst="rect">
                    <a:avLst/>
                  </a:prstGeom>
                  <a:solidFill>
                    <a:srgbClr val="00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41600" y="2486880"/>
                    <a:ext cx="1675800" cy="7560"/>
                  </a:xfrm>
                  <a:prstGeom prst="rect">
                    <a:avLst/>
                  </a:prstGeom>
                  <a:solidFill>
                    <a:srgbClr val="0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41600" y="2494800"/>
                    <a:ext cx="1675800" cy="12240"/>
                  </a:xfrm>
                  <a:prstGeom prst="rect">
                    <a:avLst/>
                  </a:prstGeom>
                  <a:solidFill>
                    <a:srgbClr val="00ee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41600" y="2507400"/>
                    <a:ext cx="1675800" cy="9360"/>
                  </a:xfrm>
                  <a:prstGeom prst="rect">
                    <a:avLst/>
                  </a:prstGeom>
                  <a:solidFill>
                    <a:srgbClr val="00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41600" y="2517120"/>
                    <a:ext cx="1675800" cy="7560"/>
                  </a:xfrm>
                  <a:prstGeom prst="rect">
                    <a:avLst/>
                  </a:prstGeom>
                  <a:solidFill>
                    <a:srgbClr val="00eb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41600" y="2525040"/>
                    <a:ext cx="1675800" cy="7560"/>
                  </a:xfrm>
                  <a:prstGeom prst="rect">
                    <a:avLst/>
                  </a:prstGeom>
                  <a:solidFill>
                    <a:srgbClr val="00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41600" y="2532960"/>
                    <a:ext cx="1675800" cy="14040"/>
                  </a:xfrm>
                  <a:prstGeom prst="rect">
                    <a:avLst/>
                  </a:prstGeom>
                  <a:solidFill>
                    <a:srgbClr val="00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41600" y="2547360"/>
                    <a:ext cx="1675800" cy="7560"/>
                  </a:xfrm>
                  <a:prstGeom prst="rect">
                    <a:avLst/>
                  </a:prstGeom>
                  <a:solidFill>
                    <a:srgbClr val="00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41600" y="2555280"/>
                    <a:ext cx="1675800" cy="7560"/>
                  </a:xfrm>
                  <a:prstGeom prst="rect">
                    <a:avLst/>
                  </a:prstGeom>
                  <a:solidFill>
                    <a:srgbClr val="00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41600" y="2563200"/>
                    <a:ext cx="1675800" cy="13680"/>
                  </a:xfrm>
                  <a:prstGeom prst="rect">
                    <a:avLst/>
                  </a:prstGeom>
                  <a:solidFill>
                    <a:srgbClr val="00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41600" y="2577240"/>
                    <a:ext cx="1675800" cy="7560"/>
                  </a:xfrm>
                  <a:prstGeom prst="rect">
                    <a:avLst/>
                  </a:prstGeom>
                  <a:solidFill>
                    <a:srgbClr val="00e2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41600" y="2585160"/>
                    <a:ext cx="1675800" cy="7560"/>
                  </a:xfrm>
                  <a:prstGeom prst="rect">
                    <a:avLst/>
                  </a:pr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41600" y="2593080"/>
                    <a:ext cx="1675800" cy="14040"/>
                  </a:xfrm>
                  <a:prstGeom prst="rect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41600" y="2607480"/>
                    <a:ext cx="1675800" cy="756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41600" y="2615400"/>
                    <a:ext cx="1675800" cy="756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41600" y="2623320"/>
                    <a:ext cx="1675800" cy="9360"/>
                  </a:xfrm>
                  <a:prstGeom prst="rect">
                    <a:avLst/>
                  </a:prstGeom>
                  <a:solidFill>
                    <a:srgbClr val="00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41600" y="2633040"/>
                    <a:ext cx="1675800" cy="1224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41600" y="2645640"/>
                    <a:ext cx="1675800" cy="75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741600" y="2653560"/>
                    <a:ext cx="1675800" cy="93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741600" y="2663280"/>
                    <a:ext cx="1675800" cy="1224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41600" y="2675880"/>
                    <a:ext cx="1675800" cy="75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"/>
              <p:cNvSpPr/>
              <p:nvPr/>
            </p:nvSpPr>
            <p:spPr>
              <a:xfrm>
                <a:off x="834120" y="2060280"/>
                <a:ext cx="146304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EDUCACIÓN SUPERI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UNIVERSITA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14160" y="6324480"/>
              <a:ext cx="6625440" cy="182880"/>
              <a:chOff x="614160" y="6324480"/>
              <a:chExt cx="6625440" cy="182880"/>
            </a:xfrm>
          </p:grpSpPr>
          <p:sp>
            <p:nvSpPr>
              <p:cNvPr id="450" name=""/>
              <p:cNvSpPr/>
              <p:nvPr/>
            </p:nvSpPr>
            <p:spPr>
              <a:xfrm>
                <a:off x="614160" y="6324480"/>
                <a:ext cx="674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Arial Narrow"/>
                    <a:ea typeface="Arial"/>
                  </a:rPr>
                  <a:t>LEYENDA: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353040" y="6330600"/>
                <a:ext cx="337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  <a:ea typeface="Arial"/>
                  </a:rPr>
                  <a:t>NIV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83520" y="6367320"/>
                <a:ext cx="183600" cy="95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3002400" y="6372000"/>
                <a:ext cx="173520" cy="87120"/>
                <a:chOff x="3002400" y="6372000"/>
                <a:chExt cx="173520" cy="87120"/>
              </a:xfrm>
            </p:grpSpPr>
            <p:pic>
              <p:nvPicPr>
                <p:cNvPr id="454" name="" descr=""/>
                <p:cNvPicPr/>
                <p:nvPr/>
              </p:nvPicPr>
              <p:blipFill>
                <a:blip r:embed="rId3"/>
                <a:srcRect l="0" t="0" r="89086" b="93770"/>
                <a:stretch/>
              </p:blipFill>
              <p:spPr>
                <a:xfrm>
                  <a:off x="3002400" y="6372000"/>
                  <a:ext cx="168480" cy="8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5" name=""/>
                <p:cNvSpPr/>
                <p:nvPr/>
              </p:nvSpPr>
              <p:spPr>
                <a:xfrm>
                  <a:off x="3002400" y="6372000"/>
                  <a:ext cx="173520" cy="8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3705840" y="6372000"/>
                <a:ext cx="164880" cy="87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29560" y="6330600"/>
                <a:ext cx="387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  <a:ea typeface="Arial"/>
                  </a:rPr>
                  <a:t>ETA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96720" y="6330600"/>
                <a:ext cx="70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  <a:ea typeface="Arial"/>
                  </a:rPr>
                  <a:t>MODALIDAD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32360" y="6330600"/>
                <a:ext cx="1183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  <a:ea typeface="Arial"/>
                  </a:rPr>
                  <a:t>MERCADO LABORA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25840" y="6372000"/>
                <a:ext cx="173520" cy="8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59240" y="6372000"/>
                <a:ext cx="180360" cy="8748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05280" y="6330600"/>
                <a:ext cx="1201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  <a:ea typeface="Arial"/>
                  </a:rPr>
                  <a:t>EDUC. COMUNITARI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H="1">
              <a:off x="2457360" y="2241360"/>
              <a:ext cx="467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28640" y="2249280"/>
              <a:ext cx="4389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873880" y="2000160"/>
              <a:ext cx="1532520" cy="684000"/>
              <a:chOff x="2873880" y="2000160"/>
              <a:chExt cx="1532520" cy="68400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2873880" y="2000160"/>
                <a:ext cx="1532520" cy="684000"/>
                <a:chOff x="2873880" y="2000160"/>
                <a:chExt cx="1532520" cy="68400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2873880" y="2000160"/>
                  <a:ext cx="1532520" cy="684000"/>
                  <a:chOff x="2873880" y="2000160"/>
                  <a:chExt cx="1532520" cy="6840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243320" y="2000160"/>
                    <a:ext cx="163080" cy="68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431">
                        <a:moveTo>
                          <a:pt x="0" y="431"/>
                        </a:moveTo>
                        <a:lnTo>
                          <a:pt x="0" y="84"/>
                        </a:lnTo>
                        <a:lnTo>
                          <a:pt x="95" y="0"/>
                        </a:lnTo>
                        <a:lnTo>
                          <a:pt x="95" y="347"/>
                        </a:lnTo>
                        <a:lnTo>
                          <a:pt x="0" y="431"/>
                        </a:lnTo>
                        <a:close/>
                      </a:path>
                    </a:pathLst>
                  </a:cu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873880" y="2000160"/>
                    <a:ext cx="15325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892" h="84">
                        <a:moveTo>
                          <a:pt x="797" y="84"/>
                        </a:moveTo>
                        <a:lnTo>
                          <a:pt x="0" y="84"/>
                        </a:lnTo>
                        <a:lnTo>
                          <a:pt x="96" y="0"/>
                        </a:lnTo>
                        <a:lnTo>
                          <a:pt x="892" y="0"/>
                        </a:lnTo>
                        <a:lnTo>
                          <a:pt x="797" y="84"/>
                        </a:lnTo>
                        <a:close/>
                      </a:path>
                    </a:pathLst>
                  </a:custGeom>
                  <a:solidFill>
                    <a:srgbClr val="0098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2873880" y="2133360"/>
                  <a:ext cx="1369440" cy="550080"/>
                  <a:chOff x="2873880" y="2133360"/>
                  <a:chExt cx="1369440" cy="5500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873880" y="2133360"/>
                    <a:ext cx="1369440" cy="900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873880" y="2142360"/>
                    <a:ext cx="1369440" cy="75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873880" y="2150280"/>
                    <a:ext cx="1369440" cy="432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873880" y="2154960"/>
                    <a:ext cx="1369440" cy="75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873880" y="2162880"/>
                    <a:ext cx="1369440" cy="93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873880" y="2172600"/>
                    <a:ext cx="1369440" cy="7560"/>
                  </a:xfrm>
                  <a:prstGeom prst="rect">
                    <a:avLst/>
                  </a:prstGeom>
                  <a:solidFill>
                    <a:srgbClr val="00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873880" y="2180520"/>
                    <a:ext cx="1369440" cy="432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873880" y="2185200"/>
                    <a:ext cx="1369440" cy="756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873880" y="2193120"/>
                    <a:ext cx="1369440" cy="9360"/>
                  </a:xfrm>
                  <a:prstGeom prst="rect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873880" y="2202840"/>
                    <a:ext cx="1369440" cy="7560"/>
                  </a:xfrm>
                  <a:prstGeom prst="rect">
                    <a:avLst/>
                  </a:pr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873880" y="2210760"/>
                    <a:ext cx="1369440" cy="9000"/>
                  </a:xfrm>
                  <a:prstGeom prst="rect">
                    <a:avLst/>
                  </a:prstGeom>
                  <a:solidFill>
                    <a:srgbClr val="00e2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873880" y="2220120"/>
                    <a:ext cx="1369440" cy="2880"/>
                  </a:xfrm>
                  <a:prstGeom prst="rect">
                    <a:avLst/>
                  </a:prstGeom>
                  <a:solidFill>
                    <a:srgbClr val="00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873880" y="2223360"/>
                    <a:ext cx="1369440" cy="9000"/>
                  </a:xfrm>
                  <a:prstGeom prst="rect">
                    <a:avLst/>
                  </a:prstGeom>
                  <a:solidFill>
                    <a:srgbClr val="00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873880" y="2232720"/>
                    <a:ext cx="1369440" cy="7920"/>
                  </a:xfrm>
                  <a:prstGeom prst="rect">
                    <a:avLst/>
                  </a:prstGeom>
                  <a:solidFill>
                    <a:srgbClr val="00e7e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873880" y="2241000"/>
                    <a:ext cx="1369440" cy="9000"/>
                  </a:xfrm>
                  <a:prstGeom prst="rect">
                    <a:avLst/>
                  </a:prstGeom>
                  <a:solidFill>
                    <a:srgbClr val="00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873880" y="2250360"/>
                    <a:ext cx="1369440" cy="2880"/>
                  </a:xfrm>
                  <a:prstGeom prst="rect">
                    <a:avLst/>
                  </a:prstGeom>
                  <a:solidFill>
                    <a:srgbClr val="00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873880" y="2253600"/>
                    <a:ext cx="1369440" cy="9000"/>
                  </a:xfrm>
                  <a:prstGeom prst="rect">
                    <a:avLst/>
                  </a:prstGeom>
                  <a:solidFill>
                    <a:srgbClr val="00eb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873880" y="2262960"/>
                    <a:ext cx="1369440" cy="7560"/>
                  </a:xfrm>
                  <a:prstGeom prst="rect">
                    <a:avLst/>
                  </a:prstGeom>
                  <a:solidFill>
                    <a:srgbClr val="00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873880" y="2270880"/>
                    <a:ext cx="1369440" cy="9360"/>
                  </a:xfrm>
                  <a:prstGeom prst="rect">
                    <a:avLst/>
                  </a:prstGeom>
                  <a:solidFill>
                    <a:srgbClr val="00ee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873880" y="2280600"/>
                    <a:ext cx="1369440" cy="7560"/>
                  </a:xfrm>
                  <a:prstGeom prst="rect">
                    <a:avLst/>
                  </a:prstGeom>
                  <a:solidFill>
                    <a:srgbClr val="0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873880" y="2288520"/>
                    <a:ext cx="1369440" cy="4320"/>
                  </a:xfrm>
                  <a:prstGeom prst="rect">
                    <a:avLst/>
                  </a:prstGeom>
                  <a:solidFill>
                    <a:srgbClr val="00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873880" y="2293200"/>
                    <a:ext cx="1369440" cy="7560"/>
                  </a:xfrm>
                  <a:prstGeom prst="rect">
                    <a:avLst/>
                  </a:prstGeom>
                  <a:solidFill>
                    <a:srgbClr val="00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873880" y="2301120"/>
                    <a:ext cx="1369440" cy="9360"/>
                  </a:xfrm>
                  <a:prstGeom prst="rect">
                    <a:avLst/>
                  </a:prstGeom>
                  <a:solidFill>
                    <a:srgbClr val="00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873880" y="2310840"/>
                    <a:ext cx="1369440" cy="7560"/>
                  </a:xfrm>
                  <a:prstGeom prst="rect">
                    <a:avLst/>
                  </a:prstGeom>
                  <a:solidFill>
                    <a:srgbClr val="00f6f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873880" y="2318760"/>
                    <a:ext cx="1369440" cy="4320"/>
                  </a:xfrm>
                  <a:prstGeom prst="rect">
                    <a:avLst/>
                  </a:prstGeom>
                  <a:solidFill>
                    <a:srgbClr val="00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873880" y="2323440"/>
                    <a:ext cx="1369440" cy="7560"/>
                  </a:xfrm>
                  <a:prstGeom prst="rect">
                    <a:avLst/>
                  </a:prstGeom>
                  <a:solidFill>
                    <a:srgbClr val="00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873880" y="2331360"/>
                    <a:ext cx="1369440" cy="7560"/>
                  </a:xfrm>
                  <a:prstGeom prst="rect">
                    <a:avLst/>
                  </a:prstGeom>
                  <a:solidFill>
                    <a:srgbClr val="00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873880" y="2339280"/>
                    <a:ext cx="1369440" cy="9000"/>
                  </a:xfrm>
                  <a:prstGeom prst="rect">
                    <a:avLst/>
                  </a:prstGeom>
                  <a:solidFill>
                    <a:srgbClr val="00fa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873880" y="2348640"/>
                    <a:ext cx="1369440" cy="7560"/>
                  </a:xfrm>
                  <a:prstGeom prst="rect">
                    <a:avLst/>
                  </a:prstGeom>
                  <a:solidFill>
                    <a:srgbClr val="00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873880" y="2356560"/>
                    <a:ext cx="1369440" cy="468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873880" y="2361600"/>
                    <a:ext cx="1369440" cy="756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873880" y="2369520"/>
                    <a:ext cx="1369440" cy="900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873880" y="2378880"/>
                    <a:ext cx="1369440" cy="756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873880" y="2386800"/>
                    <a:ext cx="1369440" cy="432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873880" y="2391480"/>
                    <a:ext cx="1369440" cy="792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873880" y="2399760"/>
                    <a:ext cx="1369440" cy="900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873880" y="2409120"/>
                    <a:ext cx="1369440" cy="7560"/>
                  </a:xfrm>
                  <a:prstGeom prst="rect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873880" y="2417040"/>
                    <a:ext cx="1369440" cy="900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873880" y="2426400"/>
                    <a:ext cx="1369440" cy="2880"/>
                  </a:xfrm>
                  <a:prstGeom prst="rect">
                    <a:avLst/>
                  </a:prstGeom>
                  <a:solidFill>
                    <a:srgbClr val="00fef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873880" y="2429640"/>
                    <a:ext cx="1369440" cy="936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873880" y="2439360"/>
                    <a:ext cx="1369440" cy="7560"/>
                  </a:xfrm>
                  <a:prstGeom prst="rect">
                    <a:avLst/>
                  </a:prstGeom>
                  <a:solidFill>
                    <a:srgbClr val="00fd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873880" y="2447280"/>
                    <a:ext cx="1369440" cy="900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873880" y="2456640"/>
                    <a:ext cx="1369440" cy="2880"/>
                  </a:xfrm>
                  <a:prstGeom prst="rect">
                    <a:avLst/>
                  </a:prstGeom>
                  <a:solidFill>
                    <a:srgbClr val="00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873880" y="2459880"/>
                    <a:ext cx="1369440" cy="9360"/>
                  </a:xfrm>
                  <a:prstGeom prst="rect">
                    <a:avLst/>
                  </a:prstGeom>
                  <a:solidFill>
                    <a:srgbClr val="00fb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873880" y="2469600"/>
                    <a:ext cx="1369440" cy="7560"/>
                  </a:xfrm>
                  <a:prstGeom prst="rect">
                    <a:avLst/>
                  </a:prstGeom>
                  <a:solidFill>
                    <a:srgbClr val="00fa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873880" y="2477520"/>
                    <a:ext cx="1369440" cy="9000"/>
                  </a:xfrm>
                  <a:prstGeom prst="rect">
                    <a:avLst/>
                  </a:prstGeom>
                  <a:solidFill>
                    <a:srgbClr val="00f9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873880" y="2486880"/>
                    <a:ext cx="1369440" cy="7560"/>
                  </a:xfrm>
                  <a:prstGeom prst="rect">
                    <a:avLst/>
                  </a:prstGeom>
                  <a:solidFill>
                    <a:srgbClr val="00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873880" y="2494800"/>
                    <a:ext cx="1369440" cy="4320"/>
                  </a:xfrm>
                  <a:prstGeom prst="rect">
                    <a:avLst/>
                  </a:prstGeom>
                  <a:solidFill>
                    <a:srgbClr val="00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873880" y="2499480"/>
                    <a:ext cx="1369440" cy="7560"/>
                  </a:xfrm>
                  <a:prstGeom prst="rect">
                    <a:avLst/>
                  </a:prstGeom>
                  <a:solidFill>
                    <a:srgbClr val="00f6f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873880" y="2507400"/>
                    <a:ext cx="1369440" cy="9360"/>
                  </a:xfrm>
                  <a:prstGeom prst="rect">
                    <a:avLst/>
                  </a:prstGeom>
                  <a:solidFill>
                    <a:srgbClr val="00f4f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873880" y="2517120"/>
                    <a:ext cx="1369440" cy="7560"/>
                  </a:xfrm>
                  <a:prstGeom prst="rect">
                    <a:avLst/>
                  </a:prstGeom>
                  <a:solidFill>
                    <a:srgbClr val="00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873880" y="2525040"/>
                    <a:ext cx="1369440" cy="4320"/>
                  </a:xfrm>
                  <a:prstGeom prst="rect">
                    <a:avLst/>
                  </a:prstGeom>
                  <a:solidFill>
                    <a:srgbClr val="00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873880" y="2529720"/>
                    <a:ext cx="1369440" cy="7560"/>
                  </a:xfrm>
                  <a:prstGeom prst="rect">
                    <a:avLst/>
                  </a:prstGeom>
                  <a:solidFill>
                    <a:srgbClr val="0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873880" y="2537640"/>
                    <a:ext cx="1369440" cy="9360"/>
                  </a:xfrm>
                  <a:prstGeom prst="rect">
                    <a:avLst/>
                  </a:prstGeom>
                  <a:solidFill>
                    <a:srgbClr val="00eee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873880" y="2547360"/>
                    <a:ext cx="1369440" cy="7560"/>
                  </a:xfrm>
                  <a:prstGeom prst="rect">
                    <a:avLst/>
                  </a:prstGeom>
                  <a:solidFill>
                    <a:srgbClr val="00ed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873880" y="2555280"/>
                    <a:ext cx="1369440" cy="7560"/>
                  </a:xfrm>
                  <a:prstGeom prst="rect">
                    <a:avLst/>
                  </a:prstGeom>
                  <a:solidFill>
                    <a:srgbClr val="00eb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873880" y="2563200"/>
                    <a:ext cx="1369440" cy="4320"/>
                  </a:xfrm>
                  <a:prstGeom prst="rect">
                    <a:avLst/>
                  </a:prstGeom>
                  <a:solidFill>
                    <a:srgbClr val="00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873880" y="2567880"/>
                    <a:ext cx="1369440" cy="9000"/>
                  </a:xfrm>
                  <a:prstGeom prst="rect">
                    <a:avLst/>
                  </a:prstGeom>
                  <a:solidFill>
                    <a:srgbClr val="00e8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873880" y="2577240"/>
                    <a:ext cx="1369440" cy="7560"/>
                  </a:xfrm>
                  <a:prstGeom prst="rect">
                    <a:avLst/>
                  </a:prstGeom>
                  <a:solidFill>
                    <a:srgbClr val="00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873880" y="2585160"/>
                    <a:ext cx="1369440" cy="7560"/>
                  </a:xfrm>
                  <a:prstGeom prst="rect">
                    <a:avLst/>
                  </a:prstGeom>
                  <a:solidFill>
                    <a:srgbClr val="00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873880" y="2593080"/>
                    <a:ext cx="1369440" cy="4680"/>
                  </a:xfrm>
                  <a:prstGeom prst="rect">
                    <a:avLst/>
                  </a:prstGeom>
                  <a:solidFill>
                    <a:srgbClr val="00e4e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873880" y="2598120"/>
                    <a:ext cx="1369440" cy="9000"/>
                  </a:xfrm>
                  <a:prstGeom prst="rect">
                    <a:avLst/>
                  </a:prstGeom>
                  <a:solidFill>
                    <a:srgbClr val="00e2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873880" y="2607480"/>
                    <a:ext cx="1369440" cy="7560"/>
                  </a:xfrm>
                  <a:prstGeom prst="rect">
                    <a:avLst/>
                  </a:prstGeom>
                  <a:solidFill>
                    <a:srgbClr val="00e1e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873880" y="2615400"/>
                    <a:ext cx="1369440" cy="7560"/>
                  </a:xfrm>
                  <a:prstGeom prst="rect">
                    <a:avLst/>
                  </a:prstGeom>
                  <a:solidFill>
                    <a:srgbClr val="0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873880" y="2623320"/>
                    <a:ext cx="1369440" cy="936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873880" y="2633040"/>
                    <a:ext cx="1369440" cy="4320"/>
                  </a:xfrm>
                  <a:prstGeom prst="rect">
                    <a:avLst/>
                  </a:prstGeom>
                  <a:solidFill>
                    <a:srgbClr val="00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873880" y="2637720"/>
                    <a:ext cx="1369440" cy="7560"/>
                  </a:xfrm>
                  <a:prstGeom prst="rect">
                    <a:avLst/>
                  </a:prstGeom>
                  <a:solidFill>
                    <a:srgbClr val="00de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873880" y="2645640"/>
                    <a:ext cx="1369440" cy="75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873880" y="2653560"/>
                    <a:ext cx="1369440" cy="9360"/>
                  </a:xfrm>
                  <a:prstGeom prst="rect">
                    <a:avLst/>
                  </a:prstGeom>
                  <a:solidFill>
                    <a:srgbClr val="00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873880" y="2663280"/>
                    <a:ext cx="1369440" cy="252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873880" y="2666160"/>
                    <a:ext cx="1369440" cy="93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873880" y="2675880"/>
                    <a:ext cx="1369440" cy="7560"/>
                  </a:xfrm>
                  <a:prstGeom prst="rect">
                    <a:avLst/>
                  </a:prstGeom>
                  <a:solidFill>
                    <a:srgbClr val="00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3" name=""/>
              <p:cNvSpPr/>
              <p:nvPr/>
            </p:nvSpPr>
            <p:spPr>
              <a:xfrm>
                <a:off x="2985480" y="2176200"/>
                <a:ext cx="1187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EDUCA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PERIOR N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NIVERSITA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 flipH="1">
              <a:off x="1676880" y="5176440"/>
              <a:ext cx="6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676880" y="5516280"/>
              <a:ext cx="1872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2614320" y="3995280"/>
              <a:ext cx="2571840" cy="191880"/>
              <a:chOff x="2614320" y="3995280"/>
              <a:chExt cx="2571840" cy="191880"/>
            </a:xfrm>
          </p:grpSpPr>
          <p:sp>
            <p:nvSpPr>
              <p:cNvPr id="547" name=""/>
              <p:cNvSpPr/>
              <p:nvPr/>
            </p:nvSpPr>
            <p:spPr>
              <a:xfrm flipH="1" flipV="1">
                <a:off x="2619000" y="3995280"/>
                <a:ext cx="5400" cy="191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2614320" y="4009680"/>
                <a:ext cx="2571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609280" y="4071600"/>
              <a:ext cx="4912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141880" y="3786120"/>
              <a:ext cx="1526400" cy="2232000"/>
              <a:chOff x="5141880" y="3786120"/>
              <a:chExt cx="1526400" cy="2232000"/>
            </a:xfrm>
          </p:grpSpPr>
          <p:sp>
            <p:nvSpPr>
              <p:cNvPr id="551" name=""/>
              <p:cNvSpPr/>
              <p:nvPr/>
            </p:nvSpPr>
            <p:spPr>
              <a:xfrm>
                <a:off x="5141880" y="3786120"/>
                <a:ext cx="1526400" cy="2232000"/>
              </a:xfrm>
              <a:prstGeom prst="rect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13500000"/>
              </a:gra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34920" y="3948120"/>
                <a:ext cx="939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TÉC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PRODUCTIV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5249880" y="5265720"/>
                <a:ext cx="1283760" cy="548640"/>
                <a:chOff x="5249880" y="5265720"/>
                <a:chExt cx="1283760" cy="54864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5249880" y="5265720"/>
                  <a:ext cx="1283760" cy="548640"/>
                  <a:chOff x="5249880" y="5265720"/>
                  <a:chExt cx="1283760" cy="5486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6375960" y="5265720"/>
                    <a:ext cx="157680" cy="5486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277">
                        <a:moveTo>
                          <a:pt x="0" y="277"/>
                        </a:moveTo>
                        <a:lnTo>
                          <a:pt x="0" y="81"/>
                        </a:lnTo>
                        <a:lnTo>
                          <a:pt x="92" y="0"/>
                        </a:lnTo>
                        <a:lnTo>
                          <a:pt x="92" y="195"/>
                        </a:lnTo>
                        <a:lnTo>
                          <a:pt x="0" y="277"/>
                        </a:lnTo>
                        <a:close/>
                      </a:path>
                    </a:pathLst>
                  </a:custGeom>
                  <a:solidFill>
                    <a:srgbClr val="e1e1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5249880" y="5265720"/>
                    <a:ext cx="12837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47" h="81">
                        <a:moveTo>
                          <a:pt x="655" y="81"/>
                        </a:moveTo>
                        <a:lnTo>
                          <a:pt x="0" y="81"/>
                        </a:lnTo>
                        <a:lnTo>
                          <a:pt x="92" y="0"/>
                        </a:lnTo>
                        <a:lnTo>
                          <a:pt x="747" y="0"/>
                        </a:lnTo>
                        <a:lnTo>
                          <a:pt x="655" y="81"/>
                        </a:lnTo>
                        <a:close/>
                      </a:path>
                    </a:pathLst>
                  </a:custGeom>
                  <a:solidFill>
                    <a:srgbClr val="9898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5249880" y="5425920"/>
                    <a:ext cx="1126080" cy="388440"/>
                  </a:xfrm>
                  <a:prstGeom prst="rect">
                    <a:avLst/>
                  </a:prstGeom>
                  <a:solidFill>
                    <a:srgbClr val="c4c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5294520" y="5501520"/>
                  <a:ext cx="1014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CICLO  BÁSIC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255280" y="4581360"/>
                <a:ext cx="1293840" cy="512640"/>
                <a:chOff x="5255280" y="4581360"/>
                <a:chExt cx="1293840" cy="51264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5255280" y="4581360"/>
                  <a:ext cx="1293840" cy="512640"/>
                  <a:chOff x="5255280" y="4581360"/>
                  <a:chExt cx="1293840" cy="5126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6391080" y="4581360"/>
                    <a:ext cx="15804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3">
                        <a:moveTo>
                          <a:pt x="0" y="323"/>
                        </a:moveTo>
                        <a:lnTo>
                          <a:pt x="0" y="84"/>
                        </a:lnTo>
                        <a:lnTo>
                          <a:pt x="92" y="0"/>
                        </a:lnTo>
                        <a:lnTo>
                          <a:pt x="92" y="241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solidFill>
                    <a:srgbClr val="e1e1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255280" y="4581360"/>
                    <a:ext cx="12938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84">
                        <a:moveTo>
                          <a:pt x="661" y="84"/>
                        </a:moveTo>
                        <a:lnTo>
                          <a:pt x="0" y="84"/>
                        </a:lnTo>
                        <a:lnTo>
                          <a:pt x="92" y="0"/>
                        </a:lnTo>
                        <a:lnTo>
                          <a:pt x="753" y="0"/>
                        </a:lnTo>
                        <a:lnTo>
                          <a:pt x="661" y="84"/>
                        </a:lnTo>
                        <a:close/>
                      </a:path>
                    </a:pathLst>
                  </a:custGeom>
                  <a:solidFill>
                    <a:srgbClr val="9898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255280" y="4714560"/>
                    <a:ext cx="1135800" cy="379440"/>
                  </a:xfrm>
                  <a:prstGeom prst="rect">
                    <a:avLst/>
                  </a:prstGeom>
                  <a:solidFill>
                    <a:srgbClr val="c4c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"/>
                <p:cNvSpPr/>
                <p:nvPr/>
              </p:nvSpPr>
              <p:spPr>
                <a:xfrm>
                  <a:off x="5371560" y="4804920"/>
                  <a:ext cx="86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CICLO MEDI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7425720" y="3765240"/>
              <a:ext cx="761400" cy="2232000"/>
              <a:chOff x="7425720" y="3765240"/>
              <a:chExt cx="761400" cy="2232000"/>
            </a:xfrm>
          </p:grpSpPr>
          <p:sp>
            <p:nvSpPr>
              <p:cNvPr id="566" name=""/>
              <p:cNvSpPr/>
              <p:nvPr/>
            </p:nvSpPr>
            <p:spPr>
              <a:xfrm>
                <a:off x="7425720" y="3765240"/>
                <a:ext cx="761400" cy="2232000"/>
              </a:xfrm>
              <a:prstGeom prst="rect">
                <a:avLst/>
              </a:prstGeom>
              <a:solidFill>
                <a:srgbClr val="ffb3ff"/>
              </a:solidFill>
              <a:ln w="2844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6200000">
                <a:off x="6876360" y="4781880"/>
                <a:ext cx="1870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EDUCACIÓ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 COMUNITA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003760" y="4189320"/>
              <a:ext cx="1230120" cy="1687320"/>
              <a:chOff x="2003760" y="4189320"/>
              <a:chExt cx="1230120" cy="16873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003760" y="4189320"/>
                <a:ext cx="1230120" cy="1687320"/>
                <a:chOff x="2003760" y="4189320"/>
                <a:chExt cx="1230120" cy="168732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2003760" y="4189320"/>
                  <a:ext cx="1230120" cy="1687320"/>
                  <a:chOff x="2003760" y="4189320"/>
                  <a:chExt cx="1230120" cy="168732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3076200" y="4189320"/>
                    <a:ext cx="15768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63">
                        <a:moveTo>
                          <a:pt x="0" y="1063"/>
                        </a:moveTo>
                        <a:lnTo>
                          <a:pt x="0" y="84"/>
                        </a:lnTo>
                        <a:lnTo>
                          <a:pt x="92" y="0"/>
                        </a:lnTo>
                        <a:lnTo>
                          <a:pt x="92" y="981"/>
                        </a:lnTo>
                        <a:lnTo>
                          <a:pt x="0" y="1063"/>
                        </a:lnTo>
                        <a:close/>
                      </a:path>
                    </a:pathLst>
                  </a:custGeom>
                  <a:solidFill>
                    <a:srgbClr val="e1e1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003760" y="4189320"/>
                    <a:ext cx="12301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16" h="84">
                        <a:moveTo>
                          <a:pt x="624" y="84"/>
                        </a:moveTo>
                        <a:lnTo>
                          <a:pt x="0" y="84"/>
                        </a:lnTo>
                        <a:lnTo>
                          <a:pt x="92" y="0"/>
                        </a:lnTo>
                        <a:lnTo>
                          <a:pt x="716" y="0"/>
                        </a:lnTo>
                        <a:lnTo>
                          <a:pt x="624" y="84"/>
                        </a:lnTo>
                        <a:close/>
                      </a:path>
                    </a:pathLst>
                  </a:custGeom>
                  <a:solidFill>
                    <a:srgbClr val="9898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2003760" y="4322520"/>
                  <a:ext cx="1072440" cy="1553400"/>
                  <a:chOff x="2003760" y="4322520"/>
                  <a:chExt cx="1072440" cy="1553400"/>
                </a:xfrm>
              </p:grpSpPr>
              <p:pic>
                <p:nvPicPr>
                  <p:cNvPr id="574" name="" descr=""/>
                  <p:cNvPicPr/>
                  <p:nvPr/>
                </p:nvPicPr>
                <p:blipFill>
                  <a:blip r:embed="rId4"/>
                  <a:srcRect l="0" t="0" r="31264" b="0"/>
                  <a:stretch/>
                </p:blipFill>
                <p:spPr>
                  <a:xfrm>
                    <a:off x="2003760" y="4322520"/>
                    <a:ext cx="1072440" cy="126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5" name="" descr=""/>
                  <p:cNvPicPr/>
                  <p:nvPr/>
                </p:nvPicPr>
                <p:blipFill>
                  <a:blip r:embed="rId5"/>
                  <a:srcRect l="0" t="0" r="31264" b="77365"/>
                  <a:stretch/>
                </p:blipFill>
                <p:spPr>
                  <a:xfrm>
                    <a:off x="2003760" y="5591880"/>
                    <a:ext cx="10724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576" name=""/>
              <p:cNvSpPr/>
              <p:nvPr/>
            </p:nvSpPr>
            <p:spPr>
              <a:xfrm>
                <a:off x="2162160" y="4349160"/>
                <a:ext cx="76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EDUCA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BÁSI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ALTERNATIV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3405240" y="4189320"/>
              <a:ext cx="1235160" cy="1687320"/>
              <a:chOff x="3405240" y="4189320"/>
              <a:chExt cx="1235160" cy="1687320"/>
            </a:xfrm>
          </p:grpSpPr>
          <p:grpSp>
            <p:nvGrpSpPr>
              <p:cNvPr id="578" name=""/>
              <p:cNvGrpSpPr/>
              <p:nvPr/>
            </p:nvGrpSpPr>
            <p:grpSpPr>
              <a:xfrm>
                <a:off x="3405240" y="4189320"/>
                <a:ext cx="1235160" cy="1687320"/>
                <a:chOff x="3405240" y="4189320"/>
                <a:chExt cx="1235160" cy="1687320"/>
              </a:xfrm>
            </p:grpSpPr>
            <p:grpSp>
              <p:nvGrpSpPr>
                <p:cNvPr id="579" name=""/>
                <p:cNvGrpSpPr/>
                <p:nvPr/>
              </p:nvGrpSpPr>
              <p:grpSpPr>
                <a:xfrm>
                  <a:off x="3405240" y="4189320"/>
                  <a:ext cx="1235160" cy="1687320"/>
                  <a:chOff x="3405240" y="4189320"/>
                  <a:chExt cx="1235160" cy="16873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4477320" y="4189320"/>
                    <a:ext cx="163080" cy="16873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063">
                        <a:moveTo>
                          <a:pt x="0" y="1063"/>
                        </a:moveTo>
                        <a:lnTo>
                          <a:pt x="0" y="82"/>
                        </a:lnTo>
                        <a:lnTo>
                          <a:pt x="95" y="0"/>
                        </a:lnTo>
                        <a:lnTo>
                          <a:pt x="95" y="979"/>
                        </a:lnTo>
                        <a:lnTo>
                          <a:pt x="0" y="1063"/>
                        </a:lnTo>
                        <a:close/>
                      </a:path>
                    </a:pathLst>
                  </a:custGeom>
                  <a:solidFill>
                    <a:srgbClr val="e1e1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405240" y="4189320"/>
                    <a:ext cx="123516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719" h="82">
                        <a:moveTo>
                          <a:pt x="624" y="82"/>
                        </a:moveTo>
                        <a:lnTo>
                          <a:pt x="0" y="82"/>
                        </a:lnTo>
                        <a:lnTo>
                          <a:pt x="95" y="0"/>
                        </a:lnTo>
                        <a:lnTo>
                          <a:pt x="719" y="0"/>
                        </a:lnTo>
                        <a:lnTo>
                          <a:pt x="624" y="82"/>
                        </a:lnTo>
                        <a:close/>
                      </a:path>
                    </a:pathLst>
                  </a:custGeom>
                  <a:solidFill>
                    <a:srgbClr val="9898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3405240" y="4319280"/>
                  <a:ext cx="1072080" cy="1556640"/>
                  <a:chOff x="3405240" y="4319280"/>
                  <a:chExt cx="1072080" cy="1556640"/>
                </a:xfrm>
              </p:grpSpPr>
              <p:pic>
                <p:nvPicPr>
                  <p:cNvPr id="583" name="" descr=""/>
                  <p:cNvPicPr/>
                  <p:nvPr/>
                </p:nvPicPr>
                <p:blipFill>
                  <a:blip r:embed="rId6"/>
                  <a:srcRect l="0" t="0" r="31264" b="0"/>
                  <a:stretch/>
                </p:blipFill>
                <p:spPr>
                  <a:xfrm>
                    <a:off x="3405240" y="4319280"/>
                    <a:ext cx="1072080" cy="12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4" name="" descr=""/>
                  <p:cNvPicPr/>
                  <p:nvPr/>
                </p:nvPicPr>
                <p:blipFill>
                  <a:blip r:embed="rId7"/>
                  <a:srcRect l="0" t="0" r="31264" b="77365"/>
                  <a:stretch/>
                </p:blipFill>
                <p:spPr>
                  <a:xfrm>
                    <a:off x="3405240" y="5587200"/>
                    <a:ext cx="10720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585" name=""/>
              <p:cNvSpPr/>
              <p:nvPr/>
            </p:nvSpPr>
            <p:spPr>
              <a:xfrm>
                <a:off x="3647880" y="4371480"/>
                <a:ext cx="627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EDUCA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BÁSI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3300"/>
                    </a:solidFill>
                    <a:latin typeface="Arial Narrow"/>
                    <a:ea typeface="Arial"/>
                  </a:rPr>
                  <a:t>ESPECIA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3924720" y="5876640"/>
              <a:ext cx="4850640" cy="288720"/>
              <a:chOff x="3924720" y="5876640"/>
              <a:chExt cx="4850640" cy="288720"/>
            </a:xfrm>
          </p:grpSpPr>
          <p:sp>
            <p:nvSpPr>
              <p:cNvPr id="587" name=""/>
              <p:cNvSpPr/>
              <p:nvPr/>
            </p:nvSpPr>
            <p:spPr>
              <a:xfrm>
                <a:off x="3940200" y="5876640"/>
                <a:ext cx="0" cy="288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924720" y="6165360"/>
                <a:ext cx="4850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20640" y="1652400"/>
              <a:ext cx="756000" cy="4556160"/>
              <a:chOff x="8720640" y="1652400"/>
              <a:chExt cx="756000" cy="4556160"/>
            </a:xfrm>
          </p:grpSpPr>
          <p:sp>
            <p:nvSpPr>
              <p:cNvPr id="590" name=""/>
              <p:cNvSpPr/>
              <p:nvPr/>
            </p:nvSpPr>
            <p:spPr>
              <a:xfrm>
                <a:off x="8720640" y="1652400"/>
                <a:ext cx="756000" cy="455616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6901560" y="3720960"/>
                <a:ext cx="439272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MERCADO LABORAL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relaciones económicas, políticas y sociale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1773360"/>
            <a:ext cx="8915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istema Nacional de Evaluación, Acreditación y  Certificación de la Calidad Educativa (SINEACE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8000" y="549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cc3300"/>
                </a:solidFill>
                <a:uFillTx/>
                <a:latin typeface="Arial"/>
              </a:rPr>
              <a:t>LEY No. 2874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2652840" y="3573360"/>
            <a:ext cx="3824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4920" y="333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FINALIDADES DEL SINEA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000" y="871920"/>
            <a:ext cx="89326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 algn="just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arantizar a la sociedad que las IE,  públicas y privadas ofrezca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ervicio de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ecomendar acciones  para superar  debilidades y  carencias identificadas en los resultados de las  autoevaluaciones y evaluaciones externas , con el propósito  de optimizar los factores  que inciden en los aprendizajes y en el desarrollo de las destrezas y  competencias necesarias para alcanzar mejores niveles de Calificación, profesional y desempeño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920" y="29242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OBJETIVOS DEL SINEA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920" y="3678120"/>
            <a:ext cx="89535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ir a mejorar la calidad de los servicios educativos en todas las etapas, niveles, modalidades, formas, ciclos y programas e instituciones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ontribuir a la medición y evaluación de los aprendizajes en el S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segurar a la sociedad que las IE, cumplen requisitos de calidad y realizan su misión y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creditar instituciones y programas educativos, así como certificar competencias laborales y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Garantizar el funcionamiento transparente de los órganos oper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Aft>
                <a:spcPts val="561"/>
              </a:spcAft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Desarrollar procesos de certificación de competencias profes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2602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 u="sng">
                <a:solidFill>
                  <a:srgbClr val="000000"/>
                </a:solidFill>
                <a:uFillTx/>
                <a:latin typeface="Arial"/>
              </a:rPr>
              <a:t>ESTRUCTURA DEL SIST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0" y="1341360"/>
            <a:ext cx="9072360" cy="5183280"/>
            <a:chOff x="0" y="1341360"/>
            <a:chExt cx="9072360" cy="5183280"/>
          </a:xfrm>
        </p:grpSpPr>
        <p:sp>
          <p:nvSpPr>
            <p:cNvPr id="601" name=""/>
            <p:cNvSpPr/>
            <p:nvPr/>
          </p:nvSpPr>
          <p:spPr>
            <a:xfrm flipH="1">
              <a:off x="7854840" y="5229360"/>
              <a:ext cx="6840" cy="34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6800" y="5229360"/>
              <a:ext cx="0" cy="35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265760" y="5229360"/>
              <a:ext cx="6480" cy="34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58440" y="3933720"/>
              <a:ext cx="0" cy="34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48240" y="3933720"/>
              <a:ext cx="0" cy="35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72240" y="3933720"/>
              <a:ext cx="0" cy="34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34320" y="1341360"/>
              <a:ext cx="2417400" cy="1008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E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334320" y="2925720"/>
              <a:ext cx="2417400" cy="1008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EA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2925720"/>
              <a:ext cx="2417400" cy="1008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EA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880" y="2925720"/>
              <a:ext cx="2417400" cy="10080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EB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1" name=""/>
            <p:cNvCxnSpPr>
              <a:stCxn id="610" idx="0"/>
              <a:endCxn id="609" idx="0"/>
            </p:cNvCxnSpPr>
            <p:nvPr/>
          </p:nvCxnSpPr>
          <p:spPr>
            <a:xfrm flipH="1" rot="16200000">
              <a:off x="4563360" y="-387720"/>
              <a:ext cx="2520" cy="6598440"/>
            </a:xfrm>
            <a:prstGeom prst="bentConnector3">
              <a:avLst>
                <a:gd name="adj1" fmla="val -2010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2" name=""/>
            <p:cNvCxnSpPr>
              <a:stCxn id="607" idx="2"/>
              <a:endCxn id="608" idx="0"/>
            </p:cNvCxnSpPr>
            <p:nvPr/>
          </p:nvCxnSpPr>
          <p:spPr>
            <a:xfrm>
              <a:off x="4542840" y="2363400"/>
              <a:ext cx="1080" cy="548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3" name=""/>
            <p:cNvSpPr/>
            <p:nvPr/>
          </p:nvSpPr>
          <p:spPr>
            <a:xfrm>
              <a:off x="1800" y="4292640"/>
              <a:ext cx="9024120" cy="936720"/>
            </a:xfrm>
            <a:prstGeom prst="rect">
              <a:avLst/>
            </a:prstGeom>
            <a:solidFill>
              <a:srgbClr val="7e9ce8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idades Especializadas en evaluación con fines de Acredit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Entidades Certificadoras de competencias Profesionales y Labora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5587920"/>
              <a:ext cx="9024480" cy="93672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ituciones Educativas, Programas, Carreras Profes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el Campo Educativo y demás cam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11600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1200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04292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22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1200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0072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500720" y="2349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00720" y="263700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116000" y="2637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1600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81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1 Título"/>
          <p:cNvSpPr/>
          <p:nvPr/>
        </p:nvSpPr>
        <p:spPr>
          <a:xfrm>
            <a:off x="108000" y="333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 u="sng">
                <a:solidFill>
                  <a:srgbClr val="cc3300"/>
                </a:solidFill>
                <a:uFillTx/>
                <a:latin typeface="Arial"/>
              </a:rPr>
              <a:t>ÓRGANOS OPERADORES DEL SINEA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1989000"/>
            <a:ext cx="8915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100" spc="-1" strike="noStrike">
                <a:solidFill>
                  <a:srgbClr val="000000"/>
                </a:solidFill>
                <a:latin typeface="Arial"/>
              </a:rPr>
              <a:t>Están constituidos por seis miembros, por tres año. Pueden constituir un Comité Consultivo. En el CONEAU, además pueden convocar Comités Técn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 u="sng">
                <a:solidFill>
                  <a:srgbClr val="cc3300"/>
                </a:solidFill>
                <a:uFillTx/>
                <a:latin typeface="Arial"/>
              </a:rPr>
              <a:t>IPEBA</a:t>
            </a:r>
            <a:r>
              <a:rPr b="1" lang="es-PE" sz="1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PE" sz="1700" spc="-1" strike="noStrike" u="sng">
                <a:solidFill>
                  <a:srgbClr val="cc3300"/>
                </a:solidFill>
                <a:uFillTx/>
                <a:latin typeface="Arial"/>
              </a:rPr>
              <a:t>CONEACES</a:t>
            </a:r>
            <a:r>
              <a:rPr b="1" lang="es-PE" sz="17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PE" sz="1700" spc="-1" strike="noStrike" u="sng">
                <a:solidFill>
                  <a:srgbClr val="cc3300"/>
                </a:solidFill>
                <a:uFillTx/>
                <a:latin typeface="Arial"/>
              </a:rPr>
              <a:t>CONE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MINEDU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MINEDU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NCYTE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MTPE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NCYTEC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UNIV-PRIV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IE-PRIV.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IE-PRIV.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UNIV-PÚB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NFIEP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SENATI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NFIE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EPLAN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NFIEP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OL. PRO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SENATI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EPLAN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700" spc="-1" strike="noStrike">
                <a:solidFill>
                  <a:srgbClr val="000000"/>
                </a:solidFill>
                <a:latin typeface="Arial"/>
              </a:rPr>
              <a:t>CE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143208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423040" y="3789360"/>
            <a:ext cx="3587400" cy="2016000"/>
            <a:chOff x="5423040" y="3789360"/>
            <a:chExt cx="3587400" cy="2016000"/>
          </a:xfrm>
        </p:grpSpPr>
        <p:sp>
          <p:nvSpPr>
            <p:cNvPr id="631" name=""/>
            <p:cNvSpPr/>
            <p:nvPr/>
          </p:nvSpPr>
          <p:spPr>
            <a:xfrm>
              <a:off x="5423040" y="5013360"/>
              <a:ext cx="1638360" cy="792000"/>
            </a:xfrm>
            <a:prstGeom prst="rect">
              <a:avLst/>
            </a:prstGeom>
            <a:solidFill>
              <a:srgbClr val="ccff33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Verdana"/>
                </a:rPr>
                <a:t>Evalu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Verdana"/>
                </a:rPr>
                <a:t>Acredi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72440" y="5013360"/>
              <a:ext cx="1638000" cy="7920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Verdana"/>
                </a:rPr>
                <a:t>Evalua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Verdana"/>
                </a:rPr>
                <a:t>Cert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3" name=""/>
            <p:cNvCxnSpPr/>
            <p:nvPr/>
          </p:nvCxnSpPr>
          <p:spPr>
            <a:xfrm flipH="1" rot="16200000">
              <a:off x="7232040" y="4039200"/>
              <a:ext cx="2160" cy="1950120"/>
            </a:xfrm>
            <a:prstGeom prst="bentConnector3">
              <a:avLst>
                <a:gd name="adj1" fmla="val -2020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"/>
            <p:cNvSpPr/>
            <p:nvPr/>
          </p:nvSpPr>
          <p:spPr>
            <a:xfrm>
              <a:off x="7226280" y="4405320"/>
              <a:ext cx="0" cy="287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18720" y="3789360"/>
              <a:ext cx="1768680" cy="647640"/>
            </a:xfrm>
            <a:prstGeom prst="rect">
              <a:avLst/>
            </a:prstGeom>
            <a:solidFill>
              <a:srgbClr val="0066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 flipV="1">
            <a:off x="622764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27640" y="47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17236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23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0066"/>
                </a:solidFill>
                <a:uFillTx/>
                <a:latin typeface="Arial"/>
              </a:rPr>
              <a:t>MODELO DE CALIDAD PARA LA ACREDITACIÓN DE CARRERAS UNIVERSITARIAS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090440" y="5665680"/>
          <a:ext cx="6786360" cy="793800"/>
        </p:xfrm>
        <a:graphic>
          <a:graphicData uri="http://schemas.openxmlformats.org/drawingml/2006/table">
            <a:tbl>
              <a:tblPr/>
              <a:tblGrid>
                <a:gridCol w="1355400"/>
                <a:gridCol w="1357560"/>
                <a:gridCol w="1187280"/>
                <a:gridCol w="1638360"/>
                <a:gridCol w="1247760"/>
              </a:tblGrid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Financie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est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estructura y Equip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de Interé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42" name=""/>
          <p:cNvGrpSpPr/>
          <p:nvPr/>
        </p:nvGrpSpPr>
        <p:grpSpPr>
          <a:xfrm>
            <a:off x="-314280" y="1413000"/>
            <a:ext cx="9494280" cy="4257360"/>
            <a:chOff x="-314280" y="1413000"/>
            <a:chExt cx="9494280" cy="4257360"/>
          </a:xfrm>
        </p:grpSpPr>
        <p:sp>
          <p:nvSpPr>
            <p:cNvPr id="643" name=""/>
            <p:cNvSpPr/>
            <p:nvPr/>
          </p:nvSpPr>
          <p:spPr>
            <a:xfrm>
              <a:off x="1109880" y="1779480"/>
              <a:ext cx="6775560" cy="792000"/>
            </a:xfrm>
            <a:prstGeom prst="rect">
              <a:avLst/>
            </a:prstGeom>
            <a:solidFill>
              <a:srgbClr val="0000cc"/>
            </a:solidFill>
            <a:ln w="284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nificación, Organización,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09880" y="3730680"/>
              <a:ext cx="6775560" cy="791640"/>
            </a:xfrm>
            <a:prstGeom prst="rect">
              <a:avLst/>
            </a:prstGeom>
            <a:solidFill>
              <a:srgbClr val="800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señanza – Aprendizaje, Investigación, Extens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Proyección So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22040" y="1413000"/>
              <a:ext cx="35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ón de la Carr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22040" y="3357360"/>
              <a:ext cx="35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Profe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22040" y="5302080"/>
              <a:ext cx="61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ios de Apoyo para la Formación Profe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1976040" y="2818080"/>
              <a:ext cx="702720" cy="352440"/>
            </a:xfrm>
            <a:custGeom>
              <a:avLst/>
              <a:gdLst>
                <a:gd name="textAreaLeft" fmla="*/ 109800 w 702720"/>
                <a:gd name="textAreaRight" fmla="*/ 614880 w 7027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8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5400000">
              <a:off x="4179240" y="2818080"/>
              <a:ext cx="702720" cy="352440"/>
            </a:xfrm>
            <a:custGeom>
              <a:avLst/>
              <a:gdLst>
                <a:gd name="textAreaLeft" fmla="*/ 109800 w 702720"/>
                <a:gd name="textAreaRight" fmla="*/ 614880 w 7027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8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6363000" y="2818080"/>
              <a:ext cx="702720" cy="352440"/>
            </a:xfrm>
            <a:custGeom>
              <a:avLst/>
              <a:gdLst>
                <a:gd name="textAreaLeft" fmla="*/ 109800 w 702720"/>
                <a:gd name="textAreaRight" fmla="*/ 614880 w 7027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800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1985040" y="4758120"/>
              <a:ext cx="702720" cy="352440"/>
            </a:xfrm>
            <a:custGeom>
              <a:avLst/>
              <a:gdLst>
                <a:gd name="textAreaLeft" fmla="*/ 109800 w 702720"/>
                <a:gd name="textAreaRight" fmla="*/ 614880 w 7027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4184640" y="4756320"/>
              <a:ext cx="703080" cy="352440"/>
            </a:xfrm>
            <a:custGeom>
              <a:avLst/>
              <a:gdLst>
                <a:gd name="textAreaLeft" fmla="*/ 109800 w 703080"/>
                <a:gd name="textAreaRight" fmla="*/ 615240 w 70308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6384240" y="4758120"/>
              <a:ext cx="702720" cy="352440"/>
            </a:xfrm>
            <a:custGeom>
              <a:avLst/>
              <a:gdLst>
                <a:gd name="textAreaLeft" fmla="*/ 109800 w 702720"/>
                <a:gd name="textAreaRight" fmla="*/ 614880 w 702720"/>
                <a:gd name="textAreaTop" fmla="*/ 88200 h 352440"/>
                <a:gd name="textAreaBottom" fmla="*/ 2646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-207360" y="4154040"/>
              <a:ext cx="1275840" cy="1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7904160" y="4144680"/>
              <a:ext cx="1275840" cy="108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314280" y="4221000"/>
              <a:ext cx="130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986600" y="4221000"/>
            <a:ext cx="13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Gradu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08000" y="333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 u="sng">
                <a:solidFill>
                  <a:srgbClr val="330066"/>
                </a:solidFill>
                <a:uFillTx/>
                <a:latin typeface="Arial"/>
              </a:rPr>
              <a:t>	</a:t>
            </a:r>
            <a:r>
              <a:rPr b="1" lang="es-ES_tradnl" sz="3900" spc="-1" strike="noStrike" u="sng">
                <a:solidFill>
                  <a:srgbClr val="330066"/>
                </a:solidFill>
                <a:uFillTx/>
                <a:latin typeface="Arial"/>
              </a:rPr>
              <a:t>	</a:t>
            </a:r>
            <a:r>
              <a:rPr b="1" lang="es-ES_tradnl" sz="3900" spc="-1" strike="noStrike" u="sng">
                <a:solidFill>
                  <a:srgbClr val="330066"/>
                </a:solidFill>
                <a:uFillTx/>
                <a:latin typeface="Arial"/>
              </a:rPr>
              <a:t>CERTIFICACIÓ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08000" y="2421000"/>
            <a:ext cx="891540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el reconocimiento público y temporal de las competencias adquiridas dentro o fuera de las instituciones educativas para ejercer funciones profesionales o labor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Certificación es un proceso público y temporal. Es otorgada por el colegio profesional correspondiente previa autorización, de acuerdo a los criterios establecidos por el SINEA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realiza a solicitud de los interesados. En los casos en que no exista colegio profesional, la Certificación se realizará de acuerdo al reglamento aprobado por el órgano compe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7" descr="foto-isos"/>
          <p:cNvPicPr/>
          <p:nvPr/>
        </p:nvPicPr>
        <p:blipFill>
          <a:blip r:embed="rId1"/>
          <a:stretch/>
        </p:blipFill>
        <p:spPr>
          <a:xfrm rot="21062400">
            <a:off x="-36000" y="476280"/>
            <a:ext cx="2214360" cy="1509840"/>
          </a:xfrm>
          <a:prstGeom prst="rect">
            <a:avLst/>
          </a:prstGeom>
          <a:ln w="0">
            <a:noFill/>
          </a:ln>
        </p:spPr>
      </p:pic>
      <p:sp>
        <p:nvSpPr>
          <p:cNvPr id="661" name="7 Rectángulo"/>
          <p:cNvSpPr/>
          <p:nvPr/>
        </p:nvSpPr>
        <p:spPr>
          <a:xfrm>
            <a:off x="4565520" y="6381720"/>
            <a:ext cx="4318200" cy="276480"/>
          </a:xfrm>
          <a:prstGeom prst="rect">
            <a:avLst/>
          </a:prstGeom>
          <a:solidFill>
            <a:srgbClr val="ffff99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Verdana"/>
              </a:rPr>
              <a:t>Ley Artículo 11 -  Reglamento Artículo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1 Título"/>
          <p:cNvSpPr/>
          <p:nvPr/>
        </p:nvSpPr>
        <p:spPr>
          <a:xfrm>
            <a:off x="1476360" y="5493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1197000"/>
            <a:ext cx="8915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3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835280" y="27000"/>
            <a:ext cx="532764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-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1187280" y="0"/>
          <a:ext cx="5972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59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900000" y="242100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Muchas gracias por su atenció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0" name=""/>
          <p:cNvSpPr/>
          <p:nvPr/>
        </p:nvSpPr>
        <p:spPr>
          <a:xfrm>
            <a:off x="2615400" y="4869000"/>
            <a:ext cx="42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Jquintana@senati.edu.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900" spc="-1" strike="noStrike">
                <a:solidFill>
                  <a:srgbClr val="330066"/>
                </a:solidFill>
                <a:latin typeface="Arial"/>
              </a:rPr>
              <a:t>Perfiles profesionales en proceso de transform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184644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3790800"/>
            <a:ext cx="39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351240" y="2428560"/>
            <a:ext cx="2801160" cy="280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89040" y="2391120"/>
            <a:ext cx="2801160" cy="280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5920" y="1484280"/>
            <a:ext cx="21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Tiempo de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20480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Cooperación y comun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4440" y="364644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66440" y="52308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5878440"/>
            <a:ext cx="160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Respons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6360" y="52308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Trabajo 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5120" y="362916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Trabajo cor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42320" y="21178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2278080"/>
            <a:ext cx="3168720" cy="2736720"/>
          </a:xfrm>
          <a:custGeom>
            <a:avLst/>
            <a:gdLst/>
            <a:ahLst/>
            <a:rect l="l" t="t" r="r" b="b"/>
            <a:pathLst>
              <a:path w="1996" h="1724">
                <a:moveTo>
                  <a:pt x="363" y="45"/>
                </a:moveTo>
                <a:lnTo>
                  <a:pt x="1225" y="0"/>
                </a:lnTo>
                <a:lnTo>
                  <a:pt x="1497" y="680"/>
                </a:lnTo>
                <a:lnTo>
                  <a:pt x="1860" y="953"/>
                </a:lnTo>
                <a:lnTo>
                  <a:pt x="1996" y="1724"/>
                </a:lnTo>
                <a:lnTo>
                  <a:pt x="1225" y="1588"/>
                </a:lnTo>
                <a:lnTo>
                  <a:pt x="771" y="1406"/>
                </a:lnTo>
                <a:lnTo>
                  <a:pt x="0" y="953"/>
                </a:lnTo>
                <a:lnTo>
                  <a:pt x="363" y="45"/>
                </a:lnTo>
                <a:close/>
              </a:path>
            </a:pathLst>
          </a:custGeom>
          <a:noFill/>
          <a:ln w="57240">
            <a:solidFill>
              <a:srgbClr val="00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878440"/>
            <a:ext cx="792000" cy="0"/>
          </a:xfrm>
          <a:prstGeom prst="line">
            <a:avLst/>
          </a:prstGeom>
          <a:ln w="572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6094440"/>
            <a:ext cx="792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33240" y="573264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400" spc="-1" strike="noStrike">
                <a:solidFill>
                  <a:srgbClr val="0066ff"/>
                </a:solidFill>
                <a:latin typeface="Arial"/>
              </a:rPr>
              <a:t>Antiguo per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8000" y="594828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400" spc="-1" strike="noStrike">
                <a:solidFill>
                  <a:srgbClr val="ff3300"/>
                </a:solidFill>
                <a:latin typeface="Arial"/>
              </a:rPr>
              <a:t>Nuevo per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846440"/>
            <a:ext cx="3240000" cy="3960720"/>
          </a:xfrm>
          <a:custGeom>
            <a:avLst/>
            <a:gdLst/>
            <a:ahLst/>
            <a:rect l="l" t="t" r="r" b="b"/>
            <a:pathLst>
              <a:path w="2041" h="2495">
                <a:moveTo>
                  <a:pt x="91" y="544"/>
                </a:moveTo>
                <a:lnTo>
                  <a:pt x="771" y="0"/>
                </a:lnTo>
                <a:lnTo>
                  <a:pt x="1633" y="363"/>
                </a:lnTo>
                <a:lnTo>
                  <a:pt x="2041" y="1225"/>
                </a:lnTo>
                <a:lnTo>
                  <a:pt x="1315" y="1769"/>
                </a:lnTo>
                <a:lnTo>
                  <a:pt x="817" y="2495"/>
                </a:lnTo>
                <a:lnTo>
                  <a:pt x="0" y="1996"/>
                </a:lnTo>
                <a:lnTo>
                  <a:pt x="136" y="1225"/>
                </a:lnTo>
                <a:lnTo>
                  <a:pt x="91" y="544"/>
                </a:lnTo>
                <a:close/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El trabajador actual tiene que ser capaz d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Planificar</a:t>
            </a: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 de forma autónoma su traba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 por sí mismo la calidad de su traba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Participar</a:t>
            </a: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 en los procesos de gest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Trabajar en </a:t>
            </a: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equipo</a:t>
            </a: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Arial"/>
              </a:rPr>
              <a:t>Perfeccionarse</a:t>
            </a:r>
            <a:r>
              <a:rPr b="0" lang="es-PE" sz="3000" spc="-1" strike="noStrike">
                <a:solidFill>
                  <a:srgbClr val="000000"/>
                </a:solidFill>
                <a:latin typeface="Arial"/>
              </a:rPr>
              <a:t> constantemente por propia iniciati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uevo perfil del trabaj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yor responsabilidad y autonom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aberes pluridisciplinares y conocimientos generales transvers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livalencia o ampliación del campo de acción individ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ciente comunicación interdisciplinarias con priorización de las tareas de coordinación y an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licación de las capacidades en situaciones concretas y evolutiv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cción de su propio derrotero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pacidad de identificar y valorar su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uevos paradigm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28520" y="2203200"/>
            <a:ext cx="38559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 LA EDUCACIÓN CENTRADA EN LA ENSEÑANZ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7080" y="21891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0120" y="2201760"/>
            <a:ext cx="42483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ACIA LA EDUCACIÓN CENTRADA EN EL APRENDIZ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71520" y="3859200"/>
            <a:ext cx="62769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FOQUE DE LA EDUCACIÓN FUNDAMENTALMENTE CENTRADA EN EL ESTUDI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7080" y="37735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7080" y="5516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78000" y="5522760"/>
            <a:ext cx="5333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OL FACILITADOR DEL DOCE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52840" y="2492280"/>
            <a:ext cx="935280" cy="790560"/>
          </a:xfrm>
          <a:prstGeom prst="rightArrow">
            <a:avLst>
              <a:gd name="adj1" fmla="val 49898"/>
              <a:gd name="adj2" fmla="val 52279"/>
            </a:avLst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Nuevo enfoque de la Formación Profesion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35440" y="2706840"/>
            <a:ext cx="863280" cy="20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8160" y="2706840"/>
            <a:ext cx="863640" cy="2089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35440" y="1987560"/>
            <a:ext cx="3816360" cy="719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0000"/>
              </a:gs>
              <a:gs pos="100000">
                <a:srgbClr val="31db9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11440" y="3429000"/>
            <a:ext cx="1079280" cy="7192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24008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nálisis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84320" y="51307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erfil de in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16920" y="486900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4921200"/>
            <a:ext cx="1800360" cy="5763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4000" y="4869000"/>
            <a:ext cx="79236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4859280" y="2166480"/>
            <a:ext cx="469800" cy="6950160"/>
          </a:xfrm>
          <a:custGeom>
            <a:avLst/>
            <a:gdLst>
              <a:gd name="textAreaLeft" fmla="*/ 300240 w 469800"/>
              <a:gd name="textAreaRight" fmla="*/ 470160 w 469800"/>
              <a:gd name="textAreaTop" fmla="*/ 181080 h 6950160"/>
              <a:gd name="textAreaBottom" fmla="*/ 6769080 h 695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3440" y="594216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Arial"/>
              </a:rPr>
              <a:t>Propuesta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900" spc="-1" strike="noStrike">
                <a:solidFill>
                  <a:srgbClr val="330066"/>
                </a:solidFill>
                <a:latin typeface="Arial"/>
              </a:rPr>
              <a:t>Concepto de compet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4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35:24Z</dcterms:created>
  <dc:creator>jquintana</dc:creator>
  <dc:description/>
  <dc:language>en-US</dc:language>
  <cp:lastModifiedBy>jquintana</cp:lastModifiedBy>
  <dcterms:modified xsi:type="dcterms:W3CDTF">2009-12-01T22:47:42Z</dcterms:modified>
  <cp:revision>33</cp:revision>
  <dc:subject/>
  <dc:title>FORMACIÓN POR COMPETENCIAS PROFESIONALES</dc:title>
</cp:coreProperties>
</file>